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6.png" ContentType="image/png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51675" cy="10180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52B-435E-42D8-A746-55496083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D5F-94ED-44D9-9F54-6C7EB25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BE1-F4BD-473E-BCE6-81FF91B2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50A-F658-4C1B-90CD-A3B248A7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A3C-56CB-4451-8DC1-EC69D95C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EDC-A8EB-4A84-B80C-5A5EE4B3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E73F-4937-43C4-BEC2-9BCCE46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E82F-4507-4236-95C4-51A5FDB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990-66C0-4969-9C66-DB62DD0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4955-8E9F-4FEB-8A89-555FF7C7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09A2-4BBD-40BB-A9E8-B223A0E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488-B6AB-4FC0-8E3C-5FF4310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F17-6B87-4DBC-944F-0994FED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89A8-7DDF-4EA4-967B-7C3D328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0F4-8F74-4B53-A344-59B988BF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9115-2747-42CF-BEDB-71618832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3117-FAC1-47D1-A34F-217AD595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014-A729-419D-9B13-91273B64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A8B-049A-4507-9772-ED8CDE9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4EB-8609-4B22-865A-CEF9C76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344-A974-475F-AE7C-B766E35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C83-72B3-4012-A40E-B20A5AF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E4F-DA4B-47F1-B557-F6655BE1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FBB-472B-4DCD-9064-89F28AA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Y울릉도M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Y울릉도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A0C3-3D26-4B9A-875E-CD8A65F1274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Y울릉도M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Y울릉도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Y울릉도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울릉도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Y울릉도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FD73-5D84-429C-ABE2-71845C3344D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ira.or.k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ira.or.k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2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160020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요양급여비용 청구방법 개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733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. 5. 18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105520"/>
            <a:ext cx="4114800" cy="98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건강보험심사평가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전산화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152280"/>
            <a:ext cx="2057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돋움"/>
                <a:ea typeface="돋움"/>
              </a:rPr>
              <a:t>병원협회 연수교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57400" y="5334120"/>
          <a:ext cx="533520" cy="46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341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747B-4BF9-4D09-B257-AC4F86EA4DD7}" type="slidenum">
              <a:t>1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828800"/>
            <a:ext cx="830592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기존 서식 활용시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2006. 12. 31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 청구분까지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PET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비용은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.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- 01. MRI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진단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함께 청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*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본인부담율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50%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적용 대상인 “가산식대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   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청구시 유의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4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본인부담면제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,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중증질환 경우도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50%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적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본인부담율 산정방법 별도 세부 작성요령 안내 예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751D-1246-4AFC-BA42-BC36952A9D7F}" type="slidenum">
              <a:t>10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53352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66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서면청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2438280"/>
          <a:ext cx="4876560" cy="1600200"/>
        </p:xfrm>
        <a:graphic>
          <a:graphicData uri="http://schemas.openxmlformats.org/drawingml/2006/table">
            <a:tbl>
              <a:tblPr/>
              <a:tblGrid>
                <a:gridCol w="2209680"/>
                <a:gridCol w="2666880"/>
              </a:tblGrid>
              <a:tr h="160020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S.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특수장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M"/>
                          <a:ea typeface="HY그래픽M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그래픽M"/>
                          <a:ea typeface="HY그래픽M"/>
                        </a:rPr>
                        <a:t>신설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그래픽M"/>
                          <a:ea typeface="HY그래픽M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lvl="1" marL="914400" indent="-457200">
                        <a:lnSpc>
                          <a:spcPct val="12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914400" indent="-457200">
                        <a:lnSpc>
                          <a:spcPct val="13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M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914400" indent="-457200">
                        <a:lnSpc>
                          <a:spcPct val="12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P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371600" y="4267080"/>
            <a:ext cx="60199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심사결과통보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CT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액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, MRI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액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00"/>
                </a:solidFill>
                <a:latin typeface="HY그래픽M"/>
                <a:ea typeface="HY그래픽M"/>
              </a:rPr>
              <a:t>삭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특수장비총액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00"/>
                </a:solidFill>
                <a:latin typeface="HY그래픽M"/>
                <a:ea typeface="HY그래픽M"/>
              </a:rPr>
              <a:t>신설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4C1A-C527-41F2-ADED-BC4FAAB31DB9}" type="slidenum">
              <a:t>11</a:t>
            </a:fld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1981080"/>
            <a:ext cx="792504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DRG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청구   </a:t>
            </a:r>
            <a:r>
              <a:rPr b="1" lang="ko-KR" sz="2400" spc="-1" strike="noStrike">
                <a:solidFill>
                  <a:srgbClr val="ffff00"/>
                </a:solidFill>
                <a:latin typeface="HY그래픽M"/>
                <a:ea typeface="HY그래픽M"/>
              </a:rPr>
              <a:t>**** PET </a:t>
            </a:r>
            <a:r>
              <a:rPr b="1" lang="ko-KR" sz="2400" spc="-1" strike="noStrike">
                <a:solidFill>
                  <a:srgbClr val="ffff00"/>
                </a:solidFill>
                <a:latin typeface="HY그래픽M"/>
                <a:ea typeface="HY그래픽M"/>
              </a:rPr>
              <a:t>별도 산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별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8)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정내역 구분코드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T007 DRG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세부내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양전자방출단층촬영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(PET: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촬영료 및 약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.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재료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 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진료내역 기재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858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257800"/>
            <a:ext cx="257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역구분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E60A-F5CF-4A98-9945-92E07D353C95}" type="slidenum">
              <a:t>12</a:t>
            </a:fld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개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정산심사 등 통보서식 개정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438280"/>
            <a:ext cx="72388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개정 서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외처방약제비 심사결과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추가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통보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요양급여비용 정산심사내역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료급여비용 정산심사내역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외처방 약제비 정산심사내역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334120"/>
            <a:ext cx="66294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375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  <a:ea typeface="굴림"/>
              </a:rPr>
              <a:t>개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정사유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요양기관 이해 도모</a:t>
            </a:r>
            <a:r>
              <a:rPr b="1" lang="en-US" sz="2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A17-9E23-4BDC-B6A2-D505BCEC0E09}" type="slidenum">
              <a:t>13</a:t>
            </a:fld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286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개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143000"/>
            <a:ext cx="66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정산심사 통보서식 등 개정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723888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신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청구번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입자성명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산업무코드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산 사유코드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 ***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이전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산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심사결정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RG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번호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486900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명칭변경</a:t>
            </a:r>
            <a:r>
              <a:rPr b="1" lang="ko-KR" sz="20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줄번호단위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조정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또는 인정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금액 ⇒ 인정금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      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 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이전심사결정액 ⇒ 이전조정금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        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 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정산심사결정액  ⇒ 정산조정금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4221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삭제</a:t>
            </a:r>
            <a:r>
              <a:rPr b="1" lang="ko-KR" sz="20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정신삼사결정차액 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줄번호단위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240-572C-4394-9C4C-B60F83109DEB}" type="slidenum">
              <a:t>14</a:t>
            </a:fld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476280"/>
            <a:ext cx="739116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정산업무코드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정산 사유코드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산심사 작업명칭코드 기재 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산심사 사유코드 기재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1700280"/>
            <a:ext cx="7467840" cy="4699080"/>
          </a:xfrm>
          <a:prstGeom prst="rect">
            <a:avLst/>
          </a:prstGeom>
          <a:noFill/>
          <a:ln cap="rnd" w="648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01, 02, 03, 04, 10, 16, 17, 19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이의신청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05, 06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재심사조정청구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11~15, 32 : 1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차심사 정산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18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심사청구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20,33~39,61 : DRG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정산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21, 22, 23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녹색기관정산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25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치등수가 이의신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26~29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보험자 이의신청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31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양한방 협진 정산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41~51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심사관리부정산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 ․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88 : </a:t>
            </a:r>
            <a:r>
              <a:rPr b="1" lang="ko-KR" sz="20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심사오류자체시정</a:t>
            </a:r>
            <a:r>
              <a:rPr b="1" lang="ko-KR" sz="2000" spc="-1" strike="noStrike">
                <a:solidFill>
                  <a:srgbClr val="ffffff"/>
                </a:solidFill>
                <a:latin typeface="HY그래픽M"/>
                <a:ea typeface="휴먼명조"/>
              </a:rPr>
              <a:t> 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1989-FFD1-49D1-ADF5-6DE1054107BC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219320"/>
            <a:ext cx="9372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심사결과통보서 “심사불능 등 세부 사유코드”란 신설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590920"/>
            <a:ext cx="81532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별첨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7)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요양급여비용 심사보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불능 및 반송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사유별 코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추가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  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심사불능 세부 사유코드” 신설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    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- 2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자리수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사용유보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1828800"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HY그래픽M"/>
                <a:ea typeface="HY그래픽M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HY그래픽M"/>
                <a:ea typeface="HY그래픽M"/>
              </a:rPr>
              <a:t>향후 전반적인 코드 재정비 후 별도 안내 및 통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7696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375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  <a:ea typeface="굴림"/>
              </a:rPr>
              <a:t>개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정사유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심사불능 사유에 대한 요양기관 이해 도모</a:t>
            </a:r>
            <a:r>
              <a:rPr b="1" lang="en-US" sz="2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357336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52880"/>
            <a:ext cx="6694560" cy="1416960"/>
          </a:xfrm>
          <a:prstGeom prst="rect">
            <a:avLst/>
          </a:prstGeom>
          <a:noFill/>
          <a:ln cap="rnd" w="64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예시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01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심사불능 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청구서의 서식번호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진료구분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           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보험자종별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진료형태 기재누락 또는 착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각각 세부 사유코드 세분화 신설 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01 ~ 0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280"/>
            <a:ext cx="586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개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67E9-A93B-4F74-95D5-F3E0411C55FB}" type="slidenum">
              <a:t>16</a:t>
            </a:fld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295280"/>
            <a:ext cx="66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암질환 병기분류 기재 자리수 변경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362320"/>
          <a:ext cx="8381880" cy="327636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590920"/>
              </a:tblGrid>
              <a:tr h="60948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 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종 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개 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MS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암질환 </a:t>
                      </a: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Stage </a:t>
                      </a: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분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X(4) / 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X(4) /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MS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암질환 </a:t>
                      </a: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TNM </a:t>
                      </a: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분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X(4) 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X(4) 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/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en-US" sz="2400" spc="-1" strike="noStrike" u="sng">
                          <a:solidFill>
                            <a:srgbClr val="ffff00"/>
                          </a:solidFill>
                          <a:uFillTx/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04920" y="38088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개정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6F2F-428D-4114-8911-51EFC1403531}" type="slidenum">
              <a:t>17</a:t>
            </a:fld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5120" y="2057400"/>
            <a:ext cx="5181480" cy="13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AAAD-7C56-4B47-B143-ECC37579DDBB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1. 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유예기간 동안 전산청구 프로그램 버전을 병용 사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할 수 있는 지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1. 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동일 요양기관은 한가지 청구 버전만 사용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429000"/>
            <a:ext cx="8229600" cy="2514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2.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서면 심사결과 통보시 항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.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별 심결금액 통보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6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2.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심결 통보는 항 별로 구분 통보되므로 서면 또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산매체 청구시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.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수장비” 내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종 검사를 함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청구시 합산한 심결 금액으로 통보되므로 조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역서 등 참고바람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72400" y="45720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45720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AD98-37F2-40F6-8A0D-F902064591D9}" type="slidenum">
              <a:t>19</a:t>
            </a:fld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533520" y="457200"/>
            <a:ext cx="4680000" cy="691920"/>
            <a:chOff x="-533520" y="457200"/>
            <a:chExt cx="4680000" cy="691920"/>
          </a:xfrm>
        </p:grpSpPr>
        <p:grpSp>
          <p:nvGrpSpPr>
            <p:cNvPr id="89" name=""/>
            <p:cNvGrpSpPr/>
            <p:nvPr/>
          </p:nvGrpSpPr>
          <p:grpSpPr>
            <a:xfrm>
              <a:off x="-533520" y="457200"/>
              <a:ext cx="4680000" cy="691920"/>
              <a:chOff x="-533520" y="457200"/>
              <a:chExt cx="4680000" cy="691920"/>
            </a:xfrm>
          </p:grpSpPr>
          <p:sp>
            <p:nvSpPr>
              <p:cNvPr id="90" name=""/>
              <p:cNvSpPr/>
              <p:nvPr/>
            </p:nvSpPr>
            <p:spPr>
              <a:xfrm rot="5400000">
                <a:off x="1460520" y="-1536840"/>
                <a:ext cx="691920" cy="4680000"/>
              </a:xfrm>
              <a:custGeom>
                <a:avLst/>
                <a:gdLst>
                  <a:gd name="textAreaLeft" fmla="*/ 101160 w 691920"/>
                  <a:gd name="textAreaRight" fmla="*/ 590760 w 691920"/>
                  <a:gd name="textAreaTop" fmla="*/ 101160 h 4680000"/>
                  <a:gd name="textAreaBottom" fmla="*/ 4578840 h 4680000"/>
                </a:gdLst>
                <a:ahLst/>
                <a:rect l="textAreaLeft" t="textAreaTop" r="textAreaRight" b="textAreaBottom"/>
                <a:pathLst>
                  <a:path w="21600" h="146033">
                    <a:moveTo>
                      <a:pt x="10800" y="0"/>
                    </a:moveTo>
                    <a:arcTo wR="10800" hR="10800" stAng="16200000" swAng="-5400000"/>
                    <a:lnTo>
                      <a:pt x="0" y="135233"/>
                    </a:lnTo>
                    <a:arcTo wR="10800" hR="10800" stAng="10800000" swAng="-5400000"/>
                    <a:lnTo>
                      <a:pt x="10800" y="1460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5400000">
                <a:off x="1565640" y="-1362600"/>
                <a:ext cx="515880" cy="4321080"/>
              </a:xfrm>
              <a:custGeom>
                <a:avLst/>
                <a:gdLst>
                  <a:gd name="textAreaLeft" fmla="*/ 75600 w 515880"/>
                  <a:gd name="textAreaRight" fmla="*/ 440280 w 515880"/>
                  <a:gd name="textAreaTop" fmla="*/ 75600 h 4321080"/>
                  <a:gd name="textAreaBottom" fmla="*/ 4245480 h 4321080"/>
                </a:gdLst>
                <a:ahLst/>
                <a:rect l="textAreaLeft" t="textAreaTop" r="textAreaRight" b="textAreaBottom"/>
                <a:pathLst>
                  <a:path w="21600" h="180813">
                    <a:moveTo>
                      <a:pt x="10800" y="0"/>
                    </a:moveTo>
                    <a:arcTo wR="10800" hR="10800" stAng="16200000" swAng="-5400000"/>
                    <a:lnTo>
                      <a:pt x="0" y="170013"/>
                    </a:lnTo>
                    <a:arcTo wR="10800" hR="10800" stAng="10800000" swAng="-5400000"/>
                    <a:lnTo>
                      <a:pt x="10800" y="1808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400000">
                <a:off x="1586160" y="-1317240"/>
                <a:ext cx="459000" cy="4228920"/>
              </a:xfrm>
              <a:custGeom>
                <a:avLst/>
                <a:gdLst>
                  <a:gd name="textAreaLeft" fmla="*/ 66960 w 459000"/>
                  <a:gd name="textAreaRight" fmla="*/ 392040 w 459000"/>
                  <a:gd name="textAreaTop" fmla="*/ 66960 h 4228920"/>
                  <a:gd name="textAreaBottom" fmla="*/ 4161960 h 4228920"/>
                </a:gdLst>
                <a:ahLst/>
                <a:rect l="textAreaLeft" t="textAreaTop" r="textAreaRight" b="textAreaBottom"/>
                <a:pathLst>
                  <a:path w="21600" h="198869">
                    <a:moveTo>
                      <a:pt x="10800" y="0"/>
                    </a:moveTo>
                    <a:arcTo wR="10800" hR="10800" stAng="16200000" swAng="-5400000"/>
                    <a:lnTo>
                      <a:pt x="0" y="188069"/>
                    </a:lnTo>
                    <a:arcTo wR="10800" hR="10800" stAng="10800000" swAng="-5400000"/>
                    <a:lnTo>
                      <a:pt x="10800" y="19886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98989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-174960" y="615960"/>
              <a:ext cx="39625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579f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24200" y="619200"/>
              <a:ext cx="37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b7b"/>
                  </a:solidFill>
                  <a:latin typeface="HY견고딕"/>
                  <a:ea typeface="HY견고딕"/>
                </a:rPr>
                <a:t>TO DO LIS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66680" y="1676520"/>
            <a:ext cx="67820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Y견고딕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청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70866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Y견고딕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청구 관련 안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4440" indent="-60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 모니터링 시스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4440" indent="-60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내역 통보문 개선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4440" indent="-60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외래명세서 일자별 작성 추진 경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276720"/>
            <a:ext cx="67820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438280"/>
            <a:ext cx="67820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0" lang="zh-CN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E92-D7D9-417F-BCE7-95B5E0128DEC}" type="slidenum">
              <a:t>2</a:t>
            </a:fld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1295280"/>
            <a:ext cx="8305920" cy="487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3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입원기간 중 영양사 또는 조리사 등급이 변동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경우 청구방법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9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3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청구 식대 줄번호의 “변경일” 항목에 변경된 등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식대의 최초 적용 일자를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예시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6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월부터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월에 걸쳐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5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 입원한 경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월 적용 치료식의 영양사 가산등급이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등급 </a:t>
            </a:r>
            <a:r>
              <a:rPr b="0" lang="ko-K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등급으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변경되어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월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부터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등급 적용 식대를 청구하는 경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Z3000 : 3(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일투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X 15(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투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Z2000 : 3(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일투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X 10(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투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  ------ 2006070</a:t>
            </a:r>
            <a:r>
              <a:rPr b="1" lang="ko-KR" sz="1800" spc="-1" strike="noStrike">
                <a:solidFill>
                  <a:srgbClr val="ffff00"/>
                </a:solidFill>
                <a:latin typeface="HY그래픽M"/>
                <a:ea typeface="HY그래픽M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변경일</a:t>
            </a:r>
            <a:r>
              <a:rPr b="1" lang="ko-KR" sz="1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772400" y="45720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45720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523880" y="51814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216-06E3-49CC-8625-DE271F34142A}" type="slidenum">
              <a:t>20</a:t>
            </a:fld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447920"/>
            <a:ext cx="8381880" cy="32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2500"/>
              </a:spcBef>
              <a:buClr>
                <a:srgbClr val="ffffff"/>
              </a:buClr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보건복지부 고시 제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2006-15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호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2.22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2006. 3. 1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일부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ctr"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en-US" sz="2500" spc="-1" strike="noStrike">
                <a:solidFill>
                  <a:srgbClr val="ffff00"/>
                </a:solidFill>
                <a:latin typeface="HY그래픽M"/>
                <a:ea typeface="HY그래픽M"/>
              </a:rPr>
              <a:t>(5. 31</a:t>
            </a:r>
            <a:r>
              <a:rPr b="1" lang="zh-CN" sz="2500" spc="-1" strike="noStrike">
                <a:solidFill>
                  <a:srgbClr val="ffff00"/>
                </a:solidFill>
                <a:latin typeface="HY그래픽M"/>
                <a:ea typeface="HY그래픽M"/>
              </a:rPr>
              <a:t>일까지 유예기간</a:t>
            </a:r>
            <a:r>
              <a:rPr b="1" lang="en-US" sz="2500" spc="-1" strike="noStrike">
                <a:solidFill>
                  <a:srgbClr val="ffff00"/>
                </a:solidFill>
                <a:latin typeface="HY그래픽M"/>
                <a:ea typeface="HY그래픽M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4F94-FE9A-4BC5-947F-CA7AE753A5F7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83808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362320"/>
            <a:ext cx="76201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특정내역 구분코드</a:t>
            </a:r>
            <a:r>
              <a:rPr b="1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MS007  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암 질환 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ge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MS008  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암 질환 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NM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MS009  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항암화학요법 투여단계 및 주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A8F0-3109-40F3-8C51-602453DDE470}" type="slidenum">
              <a:t>22</a:t>
            </a:fld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7512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(1)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1447920"/>
          <a:ext cx="8610480" cy="4368600"/>
        </p:xfrm>
        <a:graphic>
          <a:graphicData uri="http://schemas.openxmlformats.org/drawingml/2006/table">
            <a:tbl>
              <a:tblPr/>
              <a:tblGrid>
                <a:gridCol w="1312920"/>
                <a:gridCol w="4200480"/>
                <a:gridCol w="3097080"/>
              </a:tblGrid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코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특정내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형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MS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암질환  </a:t>
                      </a: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Stage </a:t>
                      </a: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분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X(4) / X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9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설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등록 암환자가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C00~C97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상병으로 진료를 받은 경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원발암 상병코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3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단 또는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4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단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와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확인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병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Stage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분류를 기재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* MS008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과 선택기재 가능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br>
                        <a:rPr sz="2400"/>
                      </a:b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예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위 유문부 악성 신생물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stage ⅢA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인 경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           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C164/3A”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5B8A-6B25-4A9A-ABF4-3008FF32A609}" type="slidenum">
              <a:t>23</a:t>
            </a:fld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80880"/>
            <a:ext cx="779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(2)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523880"/>
          <a:ext cx="8610480" cy="4360680"/>
        </p:xfrm>
        <a:graphic>
          <a:graphicData uri="http://schemas.openxmlformats.org/drawingml/2006/table">
            <a:tbl>
              <a:tblPr/>
              <a:tblGrid>
                <a:gridCol w="1295280"/>
                <a:gridCol w="3505320"/>
                <a:gridCol w="3809880"/>
              </a:tblGrid>
              <a:tr h="60948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코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특정내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형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6212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MS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암질환 </a:t>
                      </a: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TNM </a:t>
                      </a:r>
                      <a:r>
                        <a:rPr b="0" lang="ko-KR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분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X(4) /X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/X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 /X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98908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설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18000" rIns="18000" tIns="10800" bIns="1080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등록 암환자가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C00~C97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상병으로 진료를 받은 경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원발암 상병코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3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단 또는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4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단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와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확인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병기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TN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분류를 기재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MS007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과 선택기재 가능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</a:t>
                      </a: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예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위 유문부 악성 신생물로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T2aN2M0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인 경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          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C164/T2a/N2/M0”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F2FC-6355-4AF0-9D91-79CF5F2C5623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8088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암 질환 특정내역 신설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(3)</a:t>
            </a:r>
            <a:r>
              <a:rPr b="1" lang="en-US" sz="36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523880"/>
          <a:ext cx="8686800" cy="4724640"/>
        </p:xfrm>
        <a:graphic>
          <a:graphicData uri="http://schemas.openxmlformats.org/drawingml/2006/table">
            <a:tbl>
              <a:tblPr/>
              <a:tblGrid>
                <a:gridCol w="1220760"/>
                <a:gridCol w="4313160"/>
                <a:gridCol w="3152880"/>
              </a:tblGrid>
              <a:tr h="52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코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특정내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형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69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MS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항암요법 투여단계 및 주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9(1)/ 9(2)/ 9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50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설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등록 암환자가 해당 상병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C00-C97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상병으로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항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   </a:t>
                      </a:r>
                      <a:r>
                        <a:rPr b="0" lang="ko-KR" sz="2200" spc="-1" strike="noStrike">
                          <a:solidFill>
                            <a:srgbClr val="ffff00"/>
                          </a:solidFill>
                          <a:latin typeface="HY견고딕"/>
                          <a:ea typeface="HY견고딕"/>
                        </a:rPr>
                        <a:t>화학요법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를 투여받은 경우 투여단계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line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투여주기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Cycle)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를  기재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4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예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항암요법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1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차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1st line)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에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주기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cycle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투여시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       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1/03/”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    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항암요법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1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차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1st line)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에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3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주기부터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5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주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           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(Cycle)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까지 투여시  “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1/03/05” </a:t>
                      </a: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기재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98F8-BEDF-42BD-BBE9-C2A36FDD6E65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79640" y="1844640"/>
            <a:ext cx="5181480" cy="13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ECDF-82A4-43DB-BC1C-974FE108A70D}" type="slidenum">
              <a:t>26</a:t>
            </a:fld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1447920"/>
            <a:ext cx="8588160" cy="1765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1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원발암 상병이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개 이상인 경우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1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발암 상병 개수만큼 특정내역 구분코드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상병별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각각 기재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716280"/>
            <a:ext cx="8610480" cy="2362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2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진단 당시와 달리 치료과정 중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Stage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가 변경된 경우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2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발암 상병코드는 그대로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병기분류는 청구 명세서 진료분의 해당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ge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를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Restaging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한 경우 해당 시점의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병기분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를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772400" y="45720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45720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BBAA-982D-47E7-9196-73A0A27C7F15}" type="slidenum">
              <a:t>27</a:t>
            </a:fld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3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암질환 유형별 병기분류 기재방법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7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3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능한 한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ge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분류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MS007”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재를 권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단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아래질환은 별도의 기재방법에 의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1)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신경내분비암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, CNS Canc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MS007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의하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발암 상병코드만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ge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는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미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2)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소세포폐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MS007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의하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병기분류는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LD”, “ED”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로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* LD (limited Dz)”, “ED (Extensive Dz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5CF-25DB-41D4-92CA-EA1C1D572867}" type="slidenum">
              <a:t>28</a:t>
            </a:fld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523880"/>
            <a:ext cx="8382240" cy="396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3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암질환 유형별 병기분류 기재방법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8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3. 3)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난소암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자궁암 등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부인암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병기분류는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FIGO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분류법에 의거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MS007”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*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FIGO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(The International Federation of Gynecolog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nd Obstetrics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히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난소암은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grade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분류 추가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기재하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X999”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G1”, “G2”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…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형식으로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772400" y="60948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60948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CEDF-ABBF-409E-AA1A-57C27497FCDF}" type="slidenum">
              <a:t>29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905120"/>
            <a:ext cx="8610840" cy="239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및 </a:t>
            </a: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1" lang="zh-CN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방법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ctr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보건복지부 고시 제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2006-  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호 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5.  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2006. 6. 1</a:t>
            </a:r>
            <a:r>
              <a:rPr b="1" lang="zh-CN" sz="30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일부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4A35-9964-4D99-BD18-83E2B27DE9D3}" type="slidenum">
              <a:t>3</a:t>
            </a:fld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1523880"/>
            <a:ext cx="8534160" cy="449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4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동일 명세서에서 항암제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regimen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이 변경되어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투여단계 및 주기를 달리하여 투여한 경우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6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4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동일 투여단계이면서 투여주기가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1 cycle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이상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인 경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단계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/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주기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from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/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주기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To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”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각각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예시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1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군 항암제로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st line 2~3 cycle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후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regime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변경되어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군 항암제로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nd line 1 cycle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S009  1/02/03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S009   2/01/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CD6E-20AB-41AD-99AB-0CD511FB680B}" type="slidenum">
              <a:t>30</a:t>
            </a:fld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1523880"/>
            <a:ext cx="8534160" cy="3886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2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5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수술후 항암보조요법으로 사용된 약제인 경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S009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기재여부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5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졸라덱스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루프린 등 항암 보조요법으로 사용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우 ‘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S009’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재 필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단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투여단계는 기재하지 않고 투여주기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Cycle)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해당 약제의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투여 개월수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를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60948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9F1-97F1-439E-85B5-BD4CABE106EF}" type="slidenum">
              <a:t>31</a:t>
            </a:fld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1523880"/>
            <a:ext cx="8534160" cy="3886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6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서면 청구기관 기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9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6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명세서 진료내역 하단 ‘특정내역’란에 발생단위구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및 줄번호는 생략하고 아래와 같이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예시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위 유문부 악성 신생물로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tageⅢA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인 경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암질환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Stage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분류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(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원발암 상병코드 및 병기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              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: C164, StageⅢA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휴먼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53352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1081-8D29-45CA-9DA5-E684FB2EECE9}" type="slidenum">
              <a:t>32</a:t>
            </a:fld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1523880"/>
            <a:ext cx="8534160" cy="4038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7.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암화학요법 등 요양급여에 관한 세부사항 확인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8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A7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심사평가원 홈페이지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HY헤드라인M"/>
                <a:ea typeface="HY헤드라인M"/>
                <a:hlinkClick r:id="rId2"/>
              </a:rPr>
              <a:t>www.hira.or.kr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「정보공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암질환 사용약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」또는 「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QUICK MENU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하단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암화학요법 등 공고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」에서 확인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외국 가이드라인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NCCN, ESMO, ASCO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: 2006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년판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 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병기분류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MS007, MS008)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는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“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NCCN”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기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의함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68580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61DA-E6EC-412A-9D40-60E6CBB3C10B}" type="slidenum">
              <a:t>33</a:t>
            </a:fld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447920"/>
            <a:ext cx="8534160" cy="4647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HY헤드라인M"/>
                <a:ea typeface="HY헤드라인M"/>
                <a:hlinkClick r:id="rId2"/>
              </a:rPr>
              <a:t>WWW.hira.or.k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보공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암질환 사용약제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「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QUICK MENU -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암화학요법 등 공고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533520"/>
            <a:ext cx="1447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467480" y="3200400"/>
            <a:ext cx="1219320" cy="27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4267080" y="3200400"/>
          <a:ext cx="312444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200400"/>
                    <a:ext cx="31244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7200" y="3276720"/>
          <a:ext cx="3657600" cy="213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3276720"/>
                    <a:ext cx="36576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 rot="9255000">
            <a:off x="525240" y="2557080"/>
            <a:ext cx="990360" cy="582480"/>
          </a:xfrm>
          <a:custGeom>
            <a:avLst/>
            <a:gdLst/>
            <a:ahLst/>
            <a:rect l="l" t="t" r="r" b="b"/>
            <a:pathLst>
              <a:path w="599" h="299">
                <a:moveTo>
                  <a:pt x="0" y="1"/>
                </a:move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7" y="0"/>
                </a:lnTo>
                <a:lnTo>
                  <a:pt x="105" y="1"/>
                </a:lnTo>
                <a:lnTo>
                  <a:pt x="123" y="3"/>
                </a:lnTo>
                <a:lnTo>
                  <a:pt x="139" y="7"/>
                </a:lnTo>
                <a:lnTo>
                  <a:pt x="158" y="10"/>
                </a:lnTo>
                <a:lnTo>
                  <a:pt x="180" y="16"/>
                </a:lnTo>
                <a:lnTo>
                  <a:pt x="199" y="22"/>
                </a:lnTo>
                <a:lnTo>
                  <a:pt x="218" y="27"/>
                </a:lnTo>
                <a:lnTo>
                  <a:pt x="239" y="35"/>
                </a:lnTo>
                <a:lnTo>
                  <a:pt x="258" y="44"/>
                </a:lnTo>
                <a:lnTo>
                  <a:pt x="278" y="53"/>
                </a:lnTo>
                <a:lnTo>
                  <a:pt x="295" y="61"/>
                </a:lnTo>
                <a:lnTo>
                  <a:pt x="313" y="69"/>
                </a:lnTo>
                <a:lnTo>
                  <a:pt x="329" y="78"/>
                </a:lnTo>
                <a:lnTo>
                  <a:pt x="346" y="88"/>
                </a:lnTo>
                <a:lnTo>
                  <a:pt x="363" y="97"/>
                </a:lnTo>
                <a:lnTo>
                  <a:pt x="381" y="110"/>
                </a:lnTo>
                <a:lnTo>
                  <a:pt x="396" y="119"/>
                </a:lnTo>
                <a:lnTo>
                  <a:pt x="413" y="133"/>
                </a:lnTo>
                <a:lnTo>
                  <a:pt x="428" y="144"/>
                </a:lnTo>
                <a:lnTo>
                  <a:pt x="442" y="156"/>
                </a:lnTo>
                <a:lnTo>
                  <a:pt x="454" y="169"/>
                </a:lnTo>
                <a:lnTo>
                  <a:pt x="464" y="181"/>
                </a:lnTo>
                <a:lnTo>
                  <a:pt x="471" y="192"/>
                </a:lnTo>
                <a:lnTo>
                  <a:pt x="598" y="177"/>
                </a:lnTo>
                <a:lnTo>
                  <a:pt x="580" y="185"/>
                </a:lnTo>
                <a:lnTo>
                  <a:pt x="559" y="194"/>
                </a:lnTo>
                <a:lnTo>
                  <a:pt x="543" y="201"/>
                </a:lnTo>
                <a:lnTo>
                  <a:pt x="530" y="207"/>
                </a:lnTo>
                <a:lnTo>
                  <a:pt x="517" y="214"/>
                </a:lnTo>
                <a:lnTo>
                  <a:pt x="506" y="221"/>
                </a:lnTo>
                <a:lnTo>
                  <a:pt x="496" y="228"/>
                </a:lnTo>
                <a:lnTo>
                  <a:pt x="485" y="236"/>
                </a:lnTo>
                <a:lnTo>
                  <a:pt x="475" y="244"/>
                </a:lnTo>
                <a:lnTo>
                  <a:pt x="463" y="255"/>
                </a:lnTo>
                <a:lnTo>
                  <a:pt x="450" y="266"/>
                </a:lnTo>
                <a:lnTo>
                  <a:pt x="440" y="276"/>
                </a:lnTo>
                <a:lnTo>
                  <a:pt x="428" y="288"/>
                </a:lnTo>
                <a:lnTo>
                  <a:pt x="418" y="298"/>
                </a:lnTo>
                <a:lnTo>
                  <a:pt x="408" y="294"/>
                </a:lnTo>
                <a:lnTo>
                  <a:pt x="398" y="288"/>
                </a:lnTo>
                <a:lnTo>
                  <a:pt x="388" y="283"/>
                </a:lnTo>
                <a:lnTo>
                  <a:pt x="375" y="278"/>
                </a:lnTo>
                <a:lnTo>
                  <a:pt x="363" y="273"/>
                </a:lnTo>
                <a:lnTo>
                  <a:pt x="351" y="269"/>
                </a:lnTo>
                <a:lnTo>
                  <a:pt x="340" y="266"/>
                </a:lnTo>
                <a:lnTo>
                  <a:pt x="327" y="262"/>
                </a:lnTo>
                <a:lnTo>
                  <a:pt x="314" y="258"/>
                </a:lnTo>
                <a:lnTo>
                  <a:pt x="300" y="255"/>
                </a:lnTo>
                <a:lnTo>
                  <a:pt x="287" y="252"/>
                </a:lnTo>
                <a:lnTo>
                  <a:pt x="275" y="248"/>
                </a:lnTo>
                <a:lnTo>
                  <a:pt x="261" y="246"/>
                </a:lnTo>
                <a:lnTo>
                  <a:pt x="249" y="243"/>
                </a:lnTo>
                <a:lnTo>
                  <a:pt x="236" y="241"/>
                </a:lnTo>
                <a:lnTo>
                  <a:pt x="222" y="238"/>
                </a:lnTo>
                <a:lnTo>
                  <a:pt x="203" y="235"/>
                </a:lnTo>
                <a:lnTo>
                  <a:pt x="334" y="213"/>
                </a:lnTo>
                <a:lnTo>
                  <a:pt x="325" y="196"/>
                </a:lnTo>
                <a:lnTo>
                  <a:pt x="315" y="183"/>
                </a:lnTo>
                <a:lnTo>
                  <a:pt x="297" y="158"/>
                </a:lnTo>
                <a:lnTo>
                  <a:pt x="286" y="148"/>
                </a:lnTo>
                <a:lnTo>
                  <a:pt x="275" y="136"/>
                </a:lnTo>
                <a:lnTo>
                  <a:pt x="255" y="118"/>
                </a:lnTo>
                <a:lnTo>
                  <a:pt x="243" y="107"/>
                </a:lnTo>
                <a:lnTo>
                  <a:pt x="229" y="94"/>
                </a:lnTo>
                <a:lnTo>
                  <a:pt x="216" y="84"/>
                </a:lnTo>
                <a:lnTo>
                  <a:pt x="205" y="76"/>
                </a:lnTo>
                <a:lnTo>
                  <a:pt x="194" y="67"/>
                </a:lnTo>
                <a:lnTo>
                  <a:pt x="181" y="59"/>
                </a:lnTo>
                <a:lnTo>
                  <a:pt x="167" y="50"/>
                </a:lnTo>
                <a:lnTo>
                  <a:pt x="152" y="44"/>
                </a:lnTo>
                <a:lnTo>
                  <a:pt x="139" y="36"/>
                </a:lnTo>
                <a:lnTo>
                  <a:pt x="121" y="30"/>
                </a:lnTo>
                <a:lnTo>
                  <a:pt x="105" y="24"/>
                </a:lnTo>
                <a:lnTo>
                  <a:pt x="87" y="20"/>
                </a:lnTo>
                <a:lnTo>
                  <a:pt x="69" y="16"/>
                </a:lnTo>
                <a:lnTo>
                  <a:pt x="50" y="11"/>
                </a:lnTo>
                <a:lnTo>
                  <a:pt x="31" y="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8ab24e"/>
              </a:gs>
              <a:gs pos="100000">
                <a:srgbClr val="c5d8a8"/>
              </a:gs>
            </a:gsLst>
            <a:lin ang="10800000"/>
          </a:gradFill>
          <a:ln cap="rnd"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 flipV="1" rot="10032000">
            <a:off x="7467120" y="2436840"/>
            <a:ext cx="1201680" cy="645120"/>
          </a:xfrm>
          <a:custGeom>
            <a:avLst/>
            <a:gdLst/>
            <a:ahLst/>
            <a:rect l="l" t="t" r="r" b="b"/>
            <a:pathLst>
              <a:path w="599" h="299">
                <a:moveTo>
                  <a:pt x="0" y="1"/>
                </a:move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7" y="0"/>
                </a:lnTo>
                <a:lnTo>
                  <a:pt x="105" y="1"/>
                </a:lnTo>
                <a:lnTo>
                  <a:pt x="123" y="3"/>
                </a:lnTo>
                <a:lnTo>
                  <a:pt x="139" y="7"/>
                </a:lnTo>
                <a:lnTo>
                  <a:pt x="158" y="10"/>
                </a:lnTo>
                <a:lnTo>
                  <a:pt x="180" y="16"/>
                </a:lnTo>
                <a:lnTo>
                  <a:pt x="199" y="22"/>
                </a:lnTo>
                <a:lnTo>
                  <a:pt x="218" y="27"/>
                </a:lnTo>
                <a:lnTo>
                  <a:pt x="239" y="35"/>
                </a:lnTo>
                <a:lnTo>
                  <a:pt x="258" y="44"/>
                </a:lnTo>
                <a:lnTo>
                  <a:pt x="278" y="53"/>
                </a:lnTo>
                <a:lnTo>
                  <a:pt x="295" y="61"/>
                </a:lnTo>
                <a:lnTo>
                  <a:pt x="313" y="69"/>
                </a:lnTo>
                <a:lnTo>
                  <a:pt x="329" y="78"/>
                </a:lnTo>
                <a:lnTo>
                  <a:pt x="346" y="88"/>
                </a:lnTo>
                <a:lnTo>
                  <a:pt x="363" y="97"/>
                </a:lnTo>
                <a:lnTo>
                  <a:pt x="381" y="110"/>
                </a:lnTo>
                <a:lnTo>
                  <a:pt x="396" y="119"/>
                </a:lnTo>
                <a:lnTo>
                  <a:pt x="413" y="133"/>
                </a:lnTo>
                <a:lnTo>
                  <a:pt x="428" y="144"/>
                </a:lnTo>
                <a:lnTo>
                  <a:pt x="442" y="156"/>
                </a:lnTo>
                <a:lnTo>
                  <a:pt x="454" y="169"/>
                </a:lnTo>
                <a:lnTo>
                  <a:pt x="464" y="181"/>
                </a:lnTo>
                <a:lnTo>
                  <a:pt x="471" y="192"/>
                </a:lnTo>
                <a:lnTo>
                  <a:pt x="598" y="177"/>
                </a:lnTo>
                <a:lnTo>
                  <a:pt x="580" y="185"/>
                </a:lnTo>
                <a:lnTo>
                  <a:pt x="559" y="194"/>
                </a:lnTo>
                <a:lnTo>
                  <a:pt x="543" y="201"/>
                </a:lnTo>
                <a:lnTo>
                  <a:pt x="530" y="207"/>
                </a:lnTo>
                <a:lnTo>
                  <a:pt x="517" y="214"/>
                </a:lnTo>
                <a:lnTo>
                  <a:pt x="506" y="221"/>
                </a:lnTo>
                <a:lnTo>
                  <a:pt x="496" y="228"/>
                </a:lnTo>
                <a:lnTo>
                  <a:pt x="485" y="236"/>
                </a:lnTo>
                <a:lnTo>
                  <a:pt x="475" y="244"/>
                </a:lnTo>
                <a:lnTo>
                  <a:pt x="463" y="255"/>
                </a:lnTo>
                <a:lnTo>
                  <a:pt x="450" y="266"/>
                </a:lnTo>
                <a:lnTo>
                  <a:pt x="440" y="276"/>
                </a:lnTo>
                <a:lnTo>
                  <a:pt x="428" y="288"/>
                </a:lnTo>
                <a:lnTo>
                  <a:pt x="418" y="298"/>
                </a:lnTo>
                <a:lnTo>
                  <a:pt x="408" y="294"/>
                </a:lnTo>
                <a:lnTo>
                  <a:pt x="398" y="288"/>
                </a:lnTo>
                <a:lnTo>
                  <a:pt x="388" y="283"/>
                </a:lnTo>
                <a:lnTo>
                  <a:pt x="375" y="278"/>
                </a:lnTo>
                <a:lnTo>
                  <a:pt x="363" y="273"/>
                </a:lnTo>
                <a:lnTo>
                  <a:pt x="351" y="269"/>
                </a:lnTo>
                <a:lnTo>
                  <a:pt x="340" y="266"/>
                </a:lnTo>
                <a:lnTo>
                  <a:pt x="327" y="262"/>
                </a:lnTo>
                <a:lnTo>
                  <a:pt x="314" y="258"/>
                </a:lnTo>
                <a:lnTo>
                  <a:pt x="300" y="255"/>
                </a:lnTo>
                <a:lnTo>
                  <a:pt x="287" y="252"/>
                </a:lnTo>
                <a:lnTo>
                  <a:pt x="275" y="248"/>
                </a:lnTo>
                <a:lnTo>
                  <a:pt x="261" y="246"/>
                </a:lnTo>
                <a:lnTo>
                  <a:pt x="249" y="243"/>
                </a:lnTo>
                <a:lnTo>
                  <a:pt x="236" y="241"/>
                </a:lnTo>
                <a:lnTo>
                  <a:pt x="222" y="238"/>
                </a:lnTo>
                <a:lnTo>
                  <a:pt x="203" y="235"/>
                </a:lnTo>
                <a:lnTo>
                  <a:pt x="334" y="213"/>
                </a:lnTo>
                <a:lnTo>
                  <a:pt x="325" y="196"/>
                </a:lnTo>
                <a:lnTo>
                  <a:pt x="315" y="183"/>
                </a:lnTo>
                <a:lnTo>
                  <a:pt x="297" y="158"/>
                </a:lnTo>
                <a:lnTo>
                  <a:pt x="286" y="148"/>
                </a:lnTo>
                <a:lnTo>
                  <a:pt x="275" y="136"/>
                </a:lnTo>
                <a:lnTo>
                  <a:pt x="255" y="118"/>
                </a:lnTo>
                <a:lnTo>
                  <a:pt x="243" y="107"/>
                </a:lnTo>
                <a:lnTo>
                  <a:pt x="229" y="94"/>
                </a:lnTo>
                <a:lnTo>
                  <a:pt x="216" y="84"/>
                </a:lnTo>
                <a:lnTo>
                  <a:pt x="205" y="76"/>
                </a:lnTo>
                <a:lnTo>
                  <a:pt x="194" y="67"/>
                </a:lnTo>
                <a:lnTo>
                  <a:pt x="181" y="59"/>
                </a:lnTo>
                <a:lnTo>
                  <a:pt x="167" y="50"/>
                </a:lnTo>
                <a:lnTo>
                  <a:pt x="152" y="44"/>
                </a:lnTo>
                <a:lnTo>
                  <a:pt x="139" y="36"/>
                </a:lnTo>
                <a:lnTo>
                  <a:pt x="121" y="30"/>
                </a:lnTo>
                <a:lnTo>
                  <a:pt x="105" y="24"/>
                </a:lnTo>
                <a:lnTo>
                  <a:pt x="87" y="20"/>
                </a:lnTo>
                <a:lnTo>
                  <a:pt x="69" y="16"/>
                </a:lnTo>
                <a:lnTo>
                  <a:pt x="50" y="11"/>
                </a:lnTo>
                <a:lnTo>
                  <a:pt x="31" y="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c5d8a8"/>
              </a:gs>
              <a:gs pos="100000">
                <a:srgbClr val="8ab24e"/>
              </a:gs>
            </a:gsLst>
            <a:lin ang="10800000"/>
          </a:gradFill>
          <a:ln cap="rnd"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V="1" rot="4408800">
            <a:off x="739440" y="5355000"/>
            <a:ext cx="1035000" cy="380880"/>
          </a:xfrm>
          <a:custGeom>
            <a:avLst/>
            <a:gdLst/>
            <a:ahLst/>
            <a:rect l="l" t="t" r="r" b="b"/>
            <a:pathLst>
              <a:path w="599" h="299">
                <a:moveTo>
                  <a:pt x="0" y="1"/>
                </a:move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7" y="0"/>
                </a:lnTo>
                <a:lnTo>
                  <a:pt x="105" y="1"/>
                </a:lnTo>
                <a:lnTo>
                  <a:pt x="123" y="3"/>
                </a:lnTo>
                <a:lnTo>
                  <a:pt x="139" y="7"/>
                </a:lnTo>
                <a:lnTo>
                  <a:pt x="158" y="10"/>
                </a:lnTo>
                <a:lnTo>
                  <a:pt x="180" y="16"/>
                </a:lnTo>
                <a:lnTo>
                  <a:pt x="199" y="22"/>
                </a:lnTo>
                <a:lnTo>
                  <a:pt x="218" y="27"/>
                </a:lnTo>
                <a:lnTo>
                  <a:pt x="239" y="35"/>
                </a:lnTo>
                <a:lnTo>
                  <a:pt x="258" y="44"/>
                </a:lnTo>
                <a:lnTo>
                  <a:pt x="278" y="53"/>
                </a:lnTo>
                <a:lnTo>
                  <a:pt x="295" y="61"/>
                </a:lnTo>
                <a:lnTo>
                  <a:pt x="313" y="69"/>
                </a:lnTo>
                <a:lnTo>
                  <a:pt x="329" y="78"/>
                </a:lnTo>
                <a:lnTo>
                  <a:pt x="346" y="88"/>
                </a:lnTo>
                <a:lnTo>
                  <a:pt x="363" y="97"/>
                </a:lnTo>
                <a:lnTo>
                  <a:pt x="381" y="110"/>
                </a:lnTo>
                <a:lnTo>
                  <a:pt x="396" y="119"/>
                </a:lnTo>
                <a:lnTo>
                  <a:pt x="413" y="133"/>
                </a:lnTo>
                <a:lnTo>
                  <a:pt x="428" y="144"/>
                </a:lnTo>
                <a:lnTo>
                  <a:pt x="442" y="156"/>
                </a:lnTo>
                <a:lnTo>
                  <a:pt x="454" y="169"/>
                </a:lnTo>
                <a:lnTo>
                  <a:pt x="464" y="181"/>
                </a:lnTo>
                <a:lnTo>
                  <a:pt x="471" y="192"/>
                </a:lnTo>
                <a:lnTo>
                  <a:pt x="598" y="177"/>
                </a:lnTo>
                <a:lnTo>
                  <a:pt x="580" y="185"/>
                </a:lnTo>
                <a:lnTo>
                  <a:pt x="559" y="194"/>
                </a:lnTo>
                <a:lnTo>
                  <a:pt x="543" y="201"/>
                </a:lnTo>
                <a:lnTo>
                  <a:pt x="530" y="207"/>
                </a:lnTo>
                <a:lnTo>
                  <a:pt x="517" y="214"/>
                </a:lnTo>
                <a:lnTo>
                  <a:pt x="506" y="221"/>
                </a:lnTo>
                <a:lnTo>
                  <a:pt x="496" y="228"/>
                </a:lnTo>
                <a:lnTo>
                  <a:pt x="485" y="236"/>
                </a:lnTo>
                <a:lnTo>
                  <a:pt x="475" y="244"/>
                </a:lnTo>
                <a:lnTo>
                  <a:pt x="463" y="255"/>
                </a:lnTo>
                <a:lnTo>
                  <a:pt x="450" y="266"/>
                </a:lnTo>
                <a:lnTo>
                  <a:pt x="440" y="276"/>
                </a:lnTo>
                <a:lnTo>
                  <a:pt x="428" y="288"/>
                </a:lnTo>
                <a:lnTo>
                  <a:pt x="418" y="298"/>
                </a:lnTo>
                <a:lnTo>
                  <a:pt x="408" y="294"/>
                </a:lnTo>
                <a:lnTo>
                  <a:pt x="398" y="288"/>
                </a:lnTo>
                <a:lnTo>
                  <a:pt x="388" y="283"/>
                </a:lnTo>
                <a:lnTo>
                  <a:pt x="375" y="278"/>
                </a:lnTo>
                <a:lnTo>
                  <a:pt x="363" y="273"/>
                </a:lnTo>
                <a:lnTo>
                  <a:pt x="351" y="269"/>
                </a:lnTo>
                <a:lnTo>
                  <a:pt x="340" y="266"/>
                </a:lnTo>
                <a:lnTo>
                  <a:pt x="327" y="262"/>
                </a:lnTo>
                <a:lnTo>
                  <a:pt x="314" y="258"/>
                </a:lnTo>
                <a:lnTo>
                  <a:pt x="300" y="255"/>
                </a:lnTo>
                <a:lnTo>
                  <a:pt x="287" y="252"/>
                </a:lnTo>
                <a:lnTo>
                  <a:pt x="275" y="248"/>
                </a:lnTo>
                <a:lnTo>
                  <a:pt x="261" y="246"/>
                </a:lnTo>
                <a:lnTo>
                  <a:pt x="249" y="243"/>
                </a:lnTo>
                <a:lnTo>
                  <a:pt x="236" y="241"/>
                </a:lnTo>
                <a:lnTo>
                  <a:pt x="222" y="238"/>
                </a:lnTo>
                <a:lnTo>
                  <a:pt x="203" y="235"/>
                </a:lnTo>
                <a:lnTo>
                  <a:pt x="334" y="213"/>
                </a:lnTo>
                <a:lnTo>
                  <a:pt x="325" y="196"/>
                </a:lnTo>
                <a:lnTo>
                  <a:pt x="315" y="183"/>
                </a:lnTo>
                <a:lnTo>
                  <a:pt x="297" y="158"/>
                </a:lnTo>
                <a:lnTo>
                  <a:pt x="286" y="148"/>
                </a:lnTo>
                <a:lnTo>
                  <a:pt x="275" y="136"/>
                </a:lnTo>
                <a:lnTo>
                  <a:pt x="255" y="118"/>
                </a:lnTo>
                <a:lnTo>
                  <a:pt x="243" y="107"/>
                </a:lnTo>
                <a:lnTo>
                  <a:pt x="229" y="94"/>
                </a:lnTo>
                <a:lnTo>
                  <a:pt x="216" y="84"/>
                </a:lnTo>
                <a:lnTo>
                  <a:pt x="205" y="76"/>
                </a:lnTo>
                <a:lnTo>
                  <a:pt x="194" y="67"/>
                </a:lnTo>
                <a:lnTo>
                  <a:pt x="181" y="59"/>
                </a:lnTo>
                <a:lnTo>
                  <a:pt x="167" y="50"/>
                </a:lnTo>
                <a:lnTo>
                  <a:pt x="152" y="44"/>
                </a:lnTo>
                <a:lnTo>
                  <a:pt x="139" y="36"/>
                </a:lnTo>
                <a:lnTo>
                  <a:pt x="121" y="30"/>
                </a:lnTo>
                <a:lnTo>
                  <a:pt x="105" y="24"/>
                </a:lnTo>
                <a:lnTo>
                  <a:pt x="87" y="20"/>
                </a:lnTo>
                <a:lnTo>
                  <a:pt x="69" y="16"/>
                </a:lnTo>
                <a:lnTo>
                  <a:pt x="50" y="11"/>
                </a:lnTo>
                <a:lnTo>
                  <a:pt x="31" y="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8ab24e"/>
              </a:gs>
              <a:gs pos="100000">
                <a:srgbClr val="c5d8a8"/>
              </a:gs>
            </a:gsLst>
            <a:lin ang="10800000"/>
          </a:gradFill>
          <a:ln cap="rnd"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724280"/>
            <a:ext cx="3812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55627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Optima"/>
                <a:ea typeface="돋움"/>
              </a:rPr>
              <a:t>Mapping Fi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F20B-2070-403C-87AD-2BE4854820A6}" type="slidenum">
              <a:t>34</a:t>
            </a:fld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7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Mapping File - (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예시</a:t>
            </a:r>
            <a:r>
              <a:rPr b="0" lang="ko-KR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40000"/>
              </a:lnSpc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홈페이지 정보공개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암질환 사용약제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암질환 병기분류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(M/F)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게시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68580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772400" y="533520"/>
          <a:ext cx="11653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335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85800" y="2286000"/>
          <a:ext cx="7772400" cy="3276360"/>
        </p:xfrm>
        <a:graphic>
          <a:graphicData uri="http://schemas.openxmlformats.org/drawingml/2006/table">
            <a:tbl>
              <a:tblPr/>
              <a:tblGrid>
                <a:gridCol w="1066680"/>
                <a:gridCol w="1319400"/>
                <a:gridCol w="1042920"/>
                <a:gridCol w="1419120"/>
                <a:gridCol w="1462320"/>
                <a:gridCol w="1461960"/>
              </a:tblGrid>
              <a:tr h="102096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I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ts val="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CCN Class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Primary Tum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Resional Lymph Nod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(Distant Metasta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 rowSpan="5"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C00-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Lip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Oral Cavity 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1,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tage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T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8739-2D70-464F-B5A9-77AEA2AE0E34}" type="slidenum">
              <a:t>35</a:t>
            </a:fld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1905120"/>
            <a:ext cx="762012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668520" indent="-66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HY견고딕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기타 청구 관련 안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668520" indent="-6685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1.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지표 모니터링 시스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68520" indent="-66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2.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내역 통보문 개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68520" indent="-66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3. </a:t>
            </a:r>
            <a:r>
              <a:rPr b="1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18A-53B4-4D7F-9FD5-714ED8669388}" type="slidenum">
              <a:t>36</a:t>
            </a:fld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2209680"/>
            <a:ext cx="723888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지표 모니터링 시스템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C82A-91D0-4A43-8466-FE986027B91C}" type="slidenum">
              <a:t>37</a:t>
            </a:fld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990720"/>
            <a:ext cx="73152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정확한 질병코드 사용 추진 노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2286000"/>
            <a:ext cx="769608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 타당성 제고 연구용역 </a:t>
            </a:r>
            <a:r>
              <a:rPr b="0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2.8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상병 일치도 실태조사 </a:t>
            </a:r>
            <a:r>
              <a:rPr b="0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3.4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정확한 상병기재 의료계 간담회 </a:t>
            </a:r>
            <a:r>
              <a:rPr b="0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4.7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정확한 청구 실무협의회 운영 </a:t>
            </a:r>
            <a:r>
              <a:rPr b="0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4.9 ~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지표 조회시스템 구축 완료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2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115760" y="3150360"/>
            <a:ext cx="1465560" cy="1395720"/>
            <a:chOff x="7115760" y="3150360"/>
            <a:chExt cx="1465560" cy="1395720"/>
          </a:xfrm>
        </p:grpSpPr>
        <p:grpSp>
          <p:nvGrpSpPr>
            <p:cNvPr id="221" name=""/>
            <p:cNvGrpSpPr/>
            <p:nvPr/>
          </p:nvGrpSpPr>
          <p:grpSpPr>
            <a:xfrm>
              <a:off x="7115760" y="3150360"/>
              <a:ext cx="1465560" cy="1395720"/>
              <a:chOff x="7115760" y="3150360"/>
              <a:chExt cx="1465560" cy="1395720"/>
            </a:xfrm>
          </p:grpSpPr>
          <p:sp>
            <p:nvSpPr>
              <p:cNvPr id="222" name=""/>
              <p:cNvSpPr/>
              <p:nvPr/>
            </p:nvSpPr>
            <p:spPr>
              <a:xfrm rot="261000">
                <a:off x="7162920" y="3200400"/>
                <a:ext cx="1371240" cy="129528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46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1061600">
                <a:off x="7299720" y="3653640"/>
                <a:ext cx="1080720" cy="79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2" y="8223"/>
                    </a:moveTo>
                    <a:arcTo wR="10800" hR="10800" stAng="-9971774" swAng="93590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2" y="8223"/>
                    </a:moveTo>
                    <a:arcTo wR="10800" hR="10800" stAng="-9971774" swAng="9359004"/>
                  </a:path>
                </a:pathLst>
              </a:custGeom>
              <a:gradFill rotWithShape="0">
                <a:gsLst>
                  <a:gs pos="0">
                    <a:srgbClr val="4d4d4d">
                      <a:alpha val="32156"/>
                    </a:srgbClr>
                  </a:gs>
                  <a:gs pos="100000">
                    <a:srgbClr val="232323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348320" y="3489480"/>
              <a:ext cx="974880" cy="862920"/>
            </a:xfrm>
            <a:prstGeom prst="ellipse">
              <a:avLst/>
            </a:prstGeom>
            <a:gradFill rotWithShape="0">
              <a:gsLst>
                <a:gs pos="0">
                  <a:srgbClr val="00f2ec">
                    <a:alpha val="80392"/>
                  </a:srgbClr>
                </a:gs>
                <a:gs pos="100000">
                  <a:srgbClr val="006f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61000">
              <a:off x="7298280" y="3224880"/>
              <a:ext cx="1123560" cy="92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" y="11556"/>
                  </a:moveTo>
                  <a:arcTo wR="10800" hR="10800" stAng="10559193" swAng="111827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6" y="11556"/>
                  </a:moveTo>
                  <a:arcTo wR="10800" hR="10800" stAng="10559193" swAng="11182773"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1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61000">
              <a:off x="7422840" y="3262320"/>
              <a:ext cx="889560" cy="73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" y="11556"/>
                  </a:moveTo>
                  <a:arcTo wR="10800" hR="10800" stAng="10559193" swAng="111827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6" y="11556"/>
                  </a:moveTo>
                  <a:arcTo wR="10800" hR="10800" stAng="10559193" swAng="11182773"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1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7285320" y="3732120"/>
              <a:ext cx="1036800" cy="32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HY헤드라인M"/>
                </a:rPr>
                <a:t>정확한 청구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Y헤드라인M"/>
                <a:ea typeface="HY헤드라인M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C011-1703-4089-85A1-7B4ADF253269}" type="slidenum">
              <a:t>38</a:t>
            </a:fld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93840" y="266400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5440320" y="2676600"/>
            <a:ext cx="16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5423040" y="38098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25584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7696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3000" y="1981080"/>
            <a:ext cx="6929280" cy="457200"/>
            <a:chOff x="1143000" y="1981080"/>
            <a:chExt cx="6929280" cy="457200"/>
          </a:xfrm>
        </p:grpSpPr>
        <p:sp>
          <p:nvSpPr>
            <p:cNvPr id="237" name=""/>
            <p:cNvSpPr/>
            <p:nvPr/>
          </p:nvSpPr>
          <p:spPr>
            <a:xfrm>
              <a:off x="1143000" y="218412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6560" y="2184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09800" y="1981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06840" y="2184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57880" y="2184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3800" y="2184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5329440" cy="754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8120" y="13716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개 질병코드지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1695240" cy="1447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57360" y="2932200"/>
            <a:ext cx="135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743200"/>
            <a:ext cx="17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불완전코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재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057400" y="2438280"/>
            <a:ext cx="1695600" cy="1447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809880" y="2438280"/>
            <a:ext cx="1695600" cy="1524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5562720" y="2438280"/>
            <a:ext cx="1695240" cy="1600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7315200" y="2438280"/>
            <a:ext cx="1695600" cy="1524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33720" y="2743200"/>
            <a:ext cx="17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중복코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재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2743200"/>
            <a:ext cx="17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질병코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수지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743200"/>
            <a:ext cx="17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질병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구성지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2743200"/>
            <a:ext cx="17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다빈도 질병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프로파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343400"/>
            <a:ext cx="2849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HY울릉도M"/>
                <a:ea typeface="HY울릉도M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지표 생성 기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4876920"/>
            <a:ext cx="5181480" cy="1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모든 요양기관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건강보험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전산청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종별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/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입원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외래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/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진료과목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타 기관 비교지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948360" y="4869000"/>
            <a:ext cx="1588680" cy="1022040"/>
            <a:chOff x="6948360" y="4869000"/>
            <a:chExt cx="1588680" cy="1022040"/>
          </a:xfrm>
        </p:grpSpPr>
        <p:sp>
          <p:nvSpPr>
            <p:cNvPr id="260" name=""/>
            <p:cNvSpPr/>
            <p:nvPr/>
          </p:nvSpPr>
          <p:spPr>
            <a:xfrm>
              <a:off x="6948360" y="4997160"/>
              <a:ext cx="809280" cy="646560"/>
            </a:xfrm>
            <a:custGeom>
              <a:avLst/>
              <a:gdLst/>
              <a:ahLst/>
              <a:rect l="l" t="t" r="r" b="b"/>
              <a:pathLst>
                <a:path w="1022" h="817">
                  <a:moveTo>
                    <a:pt x="0" y="465"/>
                  </a:moveTo>
                  <a:lnTo>
                    <a:pt x="115" y="465"/>
                  </a:lnTo>
                  <a:lnTo>
                    <a:pt x="184" y="0"/>
                  </a:lnTo>
                  <a:lnTo>
                    <a:pt x="629" y="18"/>
                  </a:lnTo>
                  <a:lnTo>
                    <a:pt x="644" y="483"/>
                  </a:lnTo>
                  <a:lnTo>
                    <a:pt x="552" y="483"/>
                  </a:lnTo>
                  <a:lnTo>
                    <a:pt x="689" y="514"/>
                  </a:lnTo>
                  <a:lnTo>
                    <a:pt x="689" y="698"/>
                  </a:lnTo>
                  <a:lnTo>
                    <a:pt x="764" y="692"/>
                  </a:lnTo>
                  <a:lnTo>
                    <a:pt x="1022" y="763"/>
                  </a:lnTo>
                  <a:lnTo>
                    <a:pt x="532" y="817"/>
                  </a:lnTo>
                  <a:lnTo>
                    <a:pt x="356" y="723"/>
                  </a:lnTo>
                  <a:lnTo>
                    <a:pt x="188" y="739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31600" y="5043240"/>
              <a:ext cx="290880" cy="300960"/>
            </a:xfrm>
            <a:custGeom>
              <a:avLst/>
              <a:gdLst/>
              <a:ahLst/>
              <a:rect l="l" t="t" r="r" b="b"/>
              <a:pathLst>
                <a:path w="368" h="380">
                  <a:moveTo>
                    <a:pt x="0" y="0"/>
                  </a:moveTo>
                  <a:lnTo>
                    <a:pt x="10" y="380"/>
                  </a:lnTo>
                  <a:lnTo>
                    <a:pt x="368" y="378"/>
                  </a:lnTo>
                  <a:lnTo>
                    <a:pt x="35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35400" y="5241240"/>
              <a:ext cx="637200" cy="606960"/>
            </a:xfrm>
            <a:custGeom>
              <a:avLst/>
              <a:gdLst/>
              <a:ahLst/>
              <a:rect l="l" t="t" r="r" b="b"/>
              <a:pathLst>
                <a:path w="806" h="768">
                  <a:moveTo>
                    <a:pt x="15" y="482"/>
                  </a:moveTo>
                  <a:lnTo>
                    <a:pt x="0" y="391"/>
                  </a:lnTo>
                  <a:lnTo>
                    <a:pt x="0" y="355"/>
                  </a:lnTo>
                  <a:lnTo>
                    <a:pt x="76" y="312"/>
                  </a:lnTo>
                  <a:lnTo>
                    <a:pt x="112" y="342"/>
                  </a:lnTo>
                  <a:lnTo>
                    <a:pt x="179" y="337"/>
                  </a:lnTo>
                  <a:lnTo>
                    <a:pt x="273" y="312"/>
                  </a:lnTo>
                  <a:lnTo>
                    <a:pt x="316" y="288"/>
                  </a:lnTo>
                  <a:lnTo>
                    <a:pt x="329" y="253"/>
                  </a:lnTo>
                  <a:lnTo>
                    <a:pt x="355" y="217"/>
                  </a:lnTo>
                  <a:lnTo>
                    <a:pt x="409" y="186"/>
                  </a:lnTo>
                  <a:lnTo>
                    <a:pt x="441" y="140"/>
                  </a:lnTo>
                  <a:lnTo>
                    <a:pt x="508" y="21"/>
                  </a:lnTo>
                  <a:lnTo>
                    <a:pt x="720" y="0"/>
                  </a:lnTo>
                  <a:lnTo>
                    <a:pt x="754" y="28"/>
                  </a:lnTo>
                  <a:lnTo>
                    <a:pt x="751" y="39"/>
                  </a:lnTo>
                  <a:lnTo>
                    <a:pt x="738" y="58"/>
                  </a:lnTo>
                  <a:lnTo>
                    <a:pt x="738" y="86"/>
                  </a:lnTo>
                  <a:lnTo>
                    <a:pt x="735" y="104"/>
                  </a:lnTo>
                  <a:lnTo>
                    <a:pt x="727" y="104"/>
                  </a:lnTo>
                  <a:lnTo>
                    <a:pt x="747" y="148"/>
                  </a:lnTo>
                  <a:lnTo>
                    <a:pt x="779" y="222"/>
                  </a:lnTo>
                  <a:lnTo>
                    <a:pt x="806" y="253"/>
                  </a:lnTo>
                  <a:lnTo>
                    <a:pt x="806" y="306"/>
                  </a:lnTo>
                  <a:lnTo>
                    <a:pt x="171" y="768"/>
                  </a:lnTo>
                  <a:lnTo>
                    <a:pt x="121" y="740"/>
                  </a:lnTo>
                  <a:lnTo>
                    <a:pt x="101" y="531"/>
                  </a:lnTo>
                  <a:lnTo>
                    <a:pt x="15" y="48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77640" y="5772240"/>
              <a:ext cx="355680" cy="118440"/>
            </a:xfrm>
            <a:custGeom>
              <a:avLst/>
              <a:gdLst/>
              <a:ahLst/>
              <a:rect l="l" t="t" r="r" b="b"/>
              <a:pathLst>
                <a:path w="451" h="150">
                  <a:moveTo>
                    <a:pt x="0" y="150"/>
                  </a:moveTo>
                  <a:lnTo>
                    <a:pt x="407" y="150"/>
                  </a:lnTo>
                  <a:lnTo>
                    <a:pt x="451" y="0"/>
                  </a:lnTo>
                  <a:lnTo>
                    <a:pt x="169" y="3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11600" y="5479200"/>
              <a:ext cx="322560" cy="411840"/>
            </a:xfrm>
            <a:custGeom>
              <a:avLst/>
              <a:gdLst/>
              <a:ahLst/>
              <a:rect l="l" t="t" r="r" b="b"/>
              <a:pathLst>
                <a:path w="407" h="520">
                  <a:moveTo>
                    <a:pt x="293" y="520"/>
                  </a:moveTo>
                  <a:lnTo>
                    <a:pt x="293" y="375"/>
                  </a:lnTo>
                  <a:lnTo>
                    <a:pt x="318" y="237"/>
                  </a:lnTo>
                  <a:lnTo>
                    <a:pt x="353" y="145"/>
                  </a:lnTo>
                  <a:lnTo>
                    <a:pt x="376" y="79"/>
                  </a:lnTo>
                  <a:lnTo>
                    <a:pt x="407" y="43"/>
                  </a:lnTo>
                  <a:lnTo>
                    <a:pt x="407" y="30"/>
                  </a:lnTo>
                  <a:lnTo>
                    <a:pt x="389" y="10"/>
                  </a:lnTo>
                  <a:lnTo>
                    <a:pt x="369" y="0"/>
                  </a:lnTo>
                  <a:lnTo>
                    <a:pt x="335" y="2"/>
                  </a:lnTo>
                  <a:lnTo>
                    <a:pt x="278" y="25"/>
                  </a:lnTo>
                  <a:lnTo>
                    <a:pt x="194" y="90"/>
                  </a:lnTo>
                  <a:lnTo>
                    <a:pt x="121" y="181"/>
                  </a:lnTo>
                  <a:lnTo>
                    <a:pt x="58" y="294"/>
                  </a:lnTo>
                  <a:lnTo>
                    <a:pt x="27" y="385"/>
                  </a:lnTo>
                  <a:lnTo>
                    <a:pt x="0" y="520"/>
                  </a:lnTo>
                  <a:lnTo>
                    <a:pt x="293" y="5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62080" y="5493240"/>
              <a:ext cx="380880" cy="107640"/>
            </a:xfrm>
            <a:custGeom>
              <a:avLst/>
              <a:gdLst/>
              <a:ahLst/>
              <a:rect l="l" t="t" r="r" b="b"/>
              <a:pathLst>
                <a:path w="481" h="137">
                  <a:moveTo>
                    <a:pt x="0" y="43"/>
                  </a:moveTo>
                  <a:lnTo>
                    <a:pt x="59" y="48"/>
                  </a:lnTo>
                  <a:lnTo>
                    <a:pt x="114" y="79"/>
                  </a:lnTo>
                  <a:lnTo>
                    <a:pt x="146" y="113"/>
                  </a:lnTo>
                  <a:lnTo>
                    <a:pt x="216" y="128"/>
                  </a:lnTo>
                  <a:lnTo>
                    <a:pt x="286" y="118"/>
                  </a:lnTo>
                  <a:lnTo>
                    <a:pt x="481" y="137"/>
                  </a:lnTo>
                  <a:lnTo>
                    <a:pt x="472" y="64"/>
                  </a:lnTo>
                  <a:lnTo>
                    <a:pt x="272" y="61"/>
                  </a:lnTo>
                  <a:lnTo>
                    <a:pt x="236" y="56"/>
                  </a:lnTo>
                  <a:lnTo>
                    <a:pt x="138" y="0"/>
                  </a:lnTo>
                  <a:lnTo>
                    <a:pt x="107" y="10"/>
                  </a:lnTo>
                  <a:lnTo>
                    <a:pt x="82" y="5"/>
                  </a:lnTo>
                  <a:lnTo>
                    <a:pt x="52" y="5"/>
                  </a:lnTo>
                  <a:lnTo>
                    <a:pt x="44" y="12"/>
                  </a:lnTo>
                  <a:lnTo>
                    <a:pt x="1" y="3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36560" y="5176440"/>
              <a:ext cx="181800" cy="459360"/>
            </a:xfrm>
            <a:custGeom>
              <a:avLst/>
              <a:gdLst/>
              <a:ahLst/>
              <a:rect l="l" t="t" r="r" b="b"/>
              <a:pathLst>
                <a:path w="231" h="581">
                  <a:moveTo>
                    <a:pt x="94" y="19"/>
                  </a:moveTo>
                  <a:lnTo>
                    <a:pt x="110" y="9"/>
                  </a:lnTo>
                  <a:lnTo>
                    <a:pt x="128" y="9"/>
                  </a:lnTo>
                  <a:lnTo>
                    <a:pt x="132" y="12"/>
                  </a:lnTo>
                  <a:lnTo>
                    <a:pt x="144" y="4"/>
                  </a:lnTo>
                  <a:lnTo>
                    <a:pt x="160" y="0"/>
                  </a:lnTo>
                  <a:lnTo>
                    <a:pt x="165" y="4"/>
                  </a:lnTo>
                  <a:lnTo>
                    <a:pt x="169" y="9"/>
                  </a:lnTo>
                  <a:lnTo>
                    <a:pt x="188" y="9"/>
                  </a:lnTo>
                  <a:lnTo>
                    <a:pt x="204" y="17"/>
                  </a:lnTo>
                  <a:lnTo>
                    <a:pt x="231" y="79"/>
                  </a:lnTo>
                  <a:lnTo>
                    <a:pt x="227" y="84"/>
                  </a:lnTo>
                  <a:lnTo>
                    <a:pt x="154" y="224"/>
                  </a:lnTo>
                  <a:lnTo>
                    <a:pt x="141" y="270"/>
                  </a:lnTo>
                  <a:lnTo>
                    <a:pt x="130" y="443"/>
                  </a:lnTo>
                  <a:lnTo>
                    <a:pt x="112" y="477"/>
                  </a:lnTo>
                  <a:lnTo>
                    <a:pt x="67" y="490"/>
                  </a:lnTo>
                  <a:lnTo>
                    <a:pt x="34" y="527"/>
                  </a:lnTo>
                  <a:lnTo>
                    <a:pt x="18" y="555"/>
                  </a:lnTo>
                  <a:lnTo>
                    <a:pt x="4" y="581"/>
                  </a:lnTo>
                  <a:lnTo>
                    <a:pt x="0" y="527"/>
                  </a:lnTo>
                  <a:lnTo>
                    <a:pt x="7" y="466"/>
                  </a:lnTo>
                  <a:lnTo>
                    <a:pt x="24" y="405"/>
                  </a:lnTo>
                  <a:lnTo>
                    <a:pt x="43" y="321"/>
                  </a:lnTo>
                  <a:lnTo>
                    <a:pt x="58" y="254"/>
                  </a:lnTo>
                  <a:lnTo>
                    <a:pt x="58" y="224"/>
                  </a:lnTo>
                  <a:lnTo>
                    <a:pt x="55" y="206"/>
                  </a:lnTo>
                  <a:lnTo>
                    <a:pt x="51" y="171"/>
                  </a:lnTo>
                  <a:lnTo>
                    <a:pt x="54" y="135"/>
                  </a:lnTo>
                  <a:lnTo>
                    <a:pt x="63" y="104"/>
                  </a:lnTo>
                  <a:lnTo>
                    <a:pt x="67" y="84"/>
                  </a:lnTo>
                  <a:lnTo>
                    <a:pt x="85" y="35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80840" y="5339520"/>
              <a:ext cx="48960" cy="3780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18"/>
                  </a:moveTo>
                  <a:lnTo>
                    <a:pt x="12" y="10"/>
                  </a:lnTo>
                  <a:lnTo>
                    <a:pt x="35" y="0"/>
                  </a:lnTo>
                  <a:lnTo>
                    <a:pt x="63" y="2"/>
                  </a:lnTo>
                  <a:lnTo>
                    <a:pt x="55" y="43"/>
                  </a:lnTo>
                  <a:lnTo>
                    <a:pt x="42" y="36"/>
                  </a:lnTo>
                  <a:lnTo>
                    <a:pt x="28" y="36"/>
                  </a:lnTo>
                  <a:lnTo>
                    <a:pt x="8" y="48"/>
                  </a:lnTo>
                  <a:lnTo>
                    <a:pt x="0" y="4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88120" y="5286960"/>
              <a:ext cx="41040" cy="6012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2" y="0"/>
                  </a:moveTo>
                  <a:lnTo>
                    <a:pt x="52" y="68"/>
                  </a:lnTo>
                  <a:lnTo>
                    <a:pt x="52" y="71"/>
                  </a:lnTo>
                  <a:lnTo>
                    <a:pt x="50" y="73"/>
                  </a:lnTo>
                  <a:lnTo>
                    <a:pt x="46" y="76"/>
                  </a:lnTo>
                  <a:lnTo>
                    <a:pt x="43" y="73"/>
                  </a:lnTo>
                  <a:lnTo>
                    <a:pt x="0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13960" y="5158800"/>
              <a:ext cx="21960" cy="2664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0"/>
                  </a:moveTo>
                  <a:lnTo>
                    <a:pt x="9" y="35"/>
                  </a:lnTo>
                  <a:lnTo>
                    <a:pt x="27" y="28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23320" y="5339520"/>
              <a:ext cx="34560" cy="4716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8" y="0"/>
                  </a:moveTo>
                  <a:lnTo>
                    <a:pt x="0" y="23"/>
                  </a:lnTo>
                  <a:lnTo>
                    <a:pt x="4" y="48"/>
                  </a:lnTo>
                  <a:lnTo>
                    <a:pt x="11" y="59"/>
                  </a:lnTo>
                  <a:lnTo>
                    <a:pt x="28" y="59"/>
                  </a:lnTo>
                  <a:lnTo>
                    <a:pt x="40" y="43"/>
                  </a:lnTo>
                  <a:lnTo>
                    <a:pt x="44" y="25"/>
                  </a:lnTo>
                  <a:lnTo>
                    <a:pt x="34" y="10"/>
                  </a:lnTo>
                  <a:lnTo>
                    <a:pt x="2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24840" y="4922640"/>
              <a:ext cx="284040" cy="339120"/>
            </a:xfrm>
            <a:custGeom>
              <a:avLst/>
              <a:gdLst/>
              <a:ahLst/>
              <a:rect l="l" t="t" r="r" b="b"/>
              <a:pathLst>
                <a:path w="361" h="429">
                  <a:moveTo>
                    <a:pt x="71" y="29"/>
                  </a:moveTo>
                  <a:lnTo>
                    <a:pt x="48" y="59"/>
                  </a:lnTo>
                  <a:lnTo>
                    <a:pt x="31" y="151"/>
                  </a:lnTo>
                  <a:lnTo>
                    <a:pt x="37" y="179"/>
                  </a:lnTo>
                  <a:lnTo>
                    <a:pt x="37" y="192"/>
                  </a:lnTo>
                  <a:lnTo>
                    <a:pt x="0" y="253"/>
                  </a:lnTo>
                  <a:lnTo>
                    <a:pt x="1" y="266"/>
                  </a:lnTo>
                  <a:lnTo>
                    <a:pt x="33" y="279"/>
                  </a:lnTo>
                  <a:lnTo>
                    <a:pt x="33" y="315"/>
                  </a:lnTo>
                  <a:lnTo>
                    <a:pt x="40" y="320"/>
                  </a:lnTo>
                  <a:lnTo>
                    <a:pt x="33" y="334"/>
                  </a:lnTo>
                  <a:lnTo>
                    <a:pt x="37" y="339"/>
                  </a:lnTo>
                  <a:lnTo>
                    <a:pt x="44" y="352"/>
                  </a:lnTo>
                  <a:lnTo>
                    <a:pt x="44" y="355"/>
                  </a:lnTo>
                  <a:lnTo>
                    <a:pt x="37" y="375"/>
                  </a:lnTo>
                  <a:lnTo>
                    <a:pt x="37" y="391"/>
                  </a:lnTo>
                  <a:lnTo>
                    <a:pt x="43" y="401"/>
                  </a:lnTo>
                  <a:lnTo>
                    <a:pt x="114" y="417"/>
                  </a:lnTo>
                  <a:lnTo>
                    <a:pt x="188" y="422"/>
                  </a:lnTo>
                  <a:lnTo>
                    <a:pt x="272" y="424"/>
                  </a:lnTo>
                  <a:lnTo>
                    <a:pt x="346" y="429"/>
                  </a:lnTo>
                  <a:lnTo>
                    <a:pt x="361" y="417"/>
                  </a:lnTo>
                  <a:lnTo>
                    <a:pt x="354" y="404"/>
                  </a:lnTo>
                  <a:lnTo>
                    <a:pt x="345" y="342"/>
                  </a:lnTo>
                  <a:lnTo>
                    <a:pt x="114" y="0"/>
                  </a:lnTo>
                  <a:lnTo>
                    <a:pt x="71" y="29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75240" y="4873320"/>
              <a:ext cx="205200" cy="87120"/>
            </a:xfrm>
            <a:custGeom>
              <a:avLst/>
              <a:gdLst/>
              <a:ahLst/>
              <a:rect l="l" t="t" r="r" b="b"/>
              <a:pathLst>
                <a:path w="261" h="108">
                  <a:moveTo>
                    <a:pt x="0" y="87"/>
                  </a:moveTo>
                  <a:lnTo>
                    <a:pt x="39" y="69"/>
                  </a:lnTo>
                  <a:lnTo>
                    <a:pt x="57" y="108"/>
                  </a:lnTo>
                  <a:lnTo>
                    <a:pt x="261" y="54"/>
                  </a:lnTo>
                  <a:lnTo>
                    <a:pt x="240" y="25"/>
                  </a:lnTo>
                  <a:lnTo>
                    <a:pt x="218" y="15"/>
                  </a:lnTo>
                  <a:lnTo>
                    <a:pt x="207" y="11"/>
                  </a:lnTo>
                  <a:lnTo>
                    <a:pt x="175" y="0"/>
                  </a:lnTo>
                  <a:lnTo>
                    <a:pt x="144" y="0"/>
                  </a:lnTo>
                  <a:lnTo>
                    <a:pt x="94" y="7"/>
                  </a:lnTo>
                  <a:lnTo>
                    <a:pt x="46" y="25"/>
                  </a:lnTo>
                  <a:lnTo>
                    <a:pt x="7" y="51"/>
                  </a:lnTo>
                  <a:lnTo>
                    <a:pt x="3" y="7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24840" y="4869000"/>
              <a:ext cx="299880" cy="256680"/>
            </a:xfrm>
            <a:custGeom>
              <a:avLst/>
              <a:gdLst/>
              <a:ahLst/>
              <a:rect l="l" t="t" r="r" b="b"/>
              <a:pathLst>
                <a:path w="381" h="324">
                  <a:moveTo>
                    <a:pt x="100" y="84"/>
                  </a:moveTo>
                  <a:lnTo>
                    <a:pt x="74" y="102"/>
                  </a:lnTo>
                  <a:lnTo>
                    <a:pt x="53" y="127"/>
                  </a:lnTo>
                  <a:lnTo>
                    <a:pt x="31" y="211"/>
                  </a:lnTo>
                  <a:lnTo>
                    <a:pt x="44" y="221"/>
                  </a:lnTo>
                  <a:lnTo>
                    <a:pt x="127" y="216"/>
                  </a:lnTo>
                  <a:lnTo>
                    <a:pt x="44" y="226"/>
                  </a:lnTo>
                  <a:lnTo>
                    <a:pt x="43" y="229"/>
                  </a:lnTo>
                  <a:lnTo>
                    <a:pt x="71" y="242"/>
                  </a:lnTo>
                  <a:lnTo>
                    <a:pt x="75" y="249"/>
                  </a:lnTo>
                  <a:lnTo>
                    <a:pt x="53" y="252"/>
                  </a:lnTo>
                  <a:lnTo>
                    <a:pt x="63" y="260"/>
                  </a:lnTo>
                  <a:lnTo>
                    <a:pt x="44" y="291"/>
                  </a:lnTo>
                  <a:lnTo>
                    <a:pt x="44" y="260"/>
                  </a:lnTo>
                  <a:lnTo>
                    <a:pt x="40" y="257"/>
                  </a:lnTo>
                  <a:lnTo>
                    <a:pt x="31" y="273"/>
                  </a:lnTo>
                  <a:lnTo>
                    <a:pt x="0" y="324"/>
                  </a:lnTo>
                  <a:lnTo>
                    <a:pt x="36" y="257"/>
                  </a:lnTo>
                  <a:lnTo>
                    <a:pt x="36" y="244"/>
                  </a:lnTo>
                  <a:lnTo>
                    <a:pt x="28" y="229"/>
                  </a:lnTo>
                  <a:lnTo>
                    <a:pt x="26" y="221"/>
                  </a:lnTo>
                  <a:lnTo>
                    <a:pt x="31" y="212"/>
                  </a:lnTo>
                  <a:lnTo>
                    <a:pt x="48" y="127"/>
                  </a:lnTo>
                  <a:lnTo>
                    <a:pt x="56" y="115"/>
                  </a:lnTo>
                  <a:lnTo>
                    <a:pt x="47" y="102"/>
                  </a:lnTo>
                  <a:lnTo>
                    <a:pt x="48" y="86"/>
                  </a:lnTo>
                  <a:lnTo>
                    <a:pt x="58" y="66"/>
                  </a:lnTo>
                  <a:lnTo>
                    <a:pt x="80" y="50"/>
                  </a:lnTo>
                  <a:lnTo>
                    <a:pt x="114" y="32"/>
                  </a:lnTo>
                  <a:lnTo>
                    <a:pt x="87" y="53"/>
                  </a:lnTo>
                  <a:lnTo>
                    <a:pt x="83" y="63"/>
                  </a:lnTo>
                  <a:lnTo>
                    <a:pt x="74" y="71"/>
                  </a:lnTo>
                  <a:lnTo>
                    <a:pt x="71" y="84"/>
                  </a:lnTo>
                  <a:lnTo>
                    <a:pt x="83" y="81"/>
                  </a:lnTo>
                  <a:lnTo>
                    <a:pt x="87" y="76"/>
                  </a:lnTo>
                  <a:lnTo>
                    <a:pt x="100" y="66"/>
                  </a:lnTo>
                  <a:lnTo>
                    <a:pt x="95" y="58"/>
                  </a:lnTo>
                  <a:lnTo>
                    <a:pt x="114" y="58"/>
                  </a:lnTo>
                  <a:lnTo>
                    <a:pt x="111" y="48"/>
                  </a:lnTo>
                  <a:lnTo>
                    <a:pt x="134" y="45"/>
                  </a:lnTo>
                  <a:lnTo>
                    <a:pt x="145" y="32"/>
                  </a:lnTo>
                  <a:lnTo>
                    <a:pt x="174" y="32"/>
                  </a:lnTo>
                  <a:lnTo>
                    <a:pt x="228" y="22"/>
                  </a:lnTo>
                  <a:lnTo>
                    <a:pt x="259" y="30"/>
                  </a:lnTo>
                  <a:lnTo>
                    <a:pt x="221" y="37"/>
                  </a:lnTo>
                  <a:lnTo>
                    <a:pt x="170" y="53"/>
                  </a:lnTo>
                  <a:lnTo>
                    <a:pt x="138" y="63"/>
                  </a:lnTo>
                  <a:lnTo>
                    <a:pt x="125" y="81"/>
                  </a:lnTo>
                  <a:lnTo>
                    <a:pt x="118" y="99"/>
                  </a:lnTo>
                  <a:lnTo>
                    <a:pt x="145" y="84"/>
                  </a:lnTo>
                  <a:lnTo>
                    <a:pt x="157" y="89"/>
                  </a:lnTo>
                  <a:lnTo>
                    <a:pt x="174" y="71"/>
                  </a:lnTo>
                  <a:lnTo>
                    <a:pt x="201" y="66"/>
                  </a:lnTo>
                  <a:lnTo>
                    <a:pt x="224" y="73"/>
                  </a:lnTo>
                  <a:lnTo>
                    <a:pt x="247" y="63"/>
                  </a:lnTo>
                  <a:lnTo>
                    <a:pt x="262" y="61"/>
                  </a:lnTo>
                  <a:lnTo>
                    <a:pt x="282" y="63"/>
                  </a:lnTo>
                  <a:lnTo>
                    <a:pt x="278" y="37"/>
                  </a:lnTo>
                  <a:lnTo>
                    <a:pt x="294" y="37"/>
                  </a:lnTo>
                  <a:lnTo>
                    <a:pt x="311" y="45"/>
                  </a:lnTo>
                  <a:lnTo>
                    <a:pt x="291" y="27"/>
                  </a:lnTo>
                  <a:lnTo>
                    <a:pt x="271" y="27"/>
                  </a:lnTo>
                  <a:lnTo>
                    <a:pt x="264" y="18"/>
                  </a:lnTo>
                  <a:lnTo>
                    <a:pt x="235" y="7"/>
                  </a:lnTo>
                  <a:lnTo>
                    <a:pt x="201" y="7"/>
                  </a:lnTo>
                  <a:lnTo>
                    <a:pt x="145" y="18"/>
                  </a:lnTo>
                  <a:lnTo>
                    <a:pt x="204" y="0"/>
                  </a:lnTo>
                  <a:lnTo>
                    <a:pt x="247" y="7"/>
                  </a:lnTo>
                  <a:lnTo>
                    <a:pt x="279" y="22"/>
                  </a:lnTo>
                  <a:lnTo>
                    <a:pt x="311" y="32"/>
                  </a:lnTo>
                  <a:lnTo>
                    <a:pt x="334" y="50"/>
                  </a:lnTo>
                  <a:lnTo>
                    <a:pt x="358" y="66"/>
                  </a:lnTo>
                  <a:lnTo>
                    <a:pt x="381" y="104"/>
                  </a:lnTo>
                  <a:lnTo>
                    <a:pt x="87" y="193"/>
                  </a:lnTo>
                  <a:lnTo>
                    <a:pt x="87" y="163"/>
                  </a:lnTo>
                  <a:lnTo>
                    <a:pt x="103" y="122"/>
                  </a:lnTo>
                  <a:lnTo>
                    <a:pt x="100" y="99"/>
                  </a:lnTo>
                  <a:lnTo>
                    <a:pt x="10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89280" y="4948200"/>
              <a:ext cx="257760" cy="254880"/>
            </a:xfrm>
            <a:custGeom>
              <a:avLst/>
              <a:gdLst/>
              <a:ahLst/>
              <a:rect l="l" t="t" r="r" b="b"/>
              <a:pathLst>
                <a:path w="325" h="324">
                  <a:moveTo>
                    <a:pt x="4" y="72"/>
                  </a:moveTo>
                  <a:lnTo>
                    <a:pt x="0" y="94"/>
                  </a:lnTo>
                  <a:lnTo>
                    <a:pt x="8" y="130"/>
                  </a:lnTo>
                  <a:lnTo>
                    <a:pt x="47" y="161"/>
                  </a:lnTo>
                  <a:lnTo>
                    <a:pt x="47" y="184"/>
                  </a:lnTo>
                  <a:lnTo>
                    <a:pt x="79" y="189"/>
                  </a:lnTo>
                  <a:lnTo>
                    <a:pt x="91" y="168"/>
                  </a:lnTo>
                  <a:lnTo>
                    <a:pt x="82" y="161"/>
                  </a:lnTo>
                  <a:lnTo>
                    <a:pt x="82" y="145"/>
                  </a:lnTo>
                  <a:lnTo>
                    <a:pt x="91" y="132"/>
                  </a:lnTo>
                  <a:lnTo>
                    <a:pt x="102" y="135"/>
                  </a:lnTo>
                  <a:lnTo>
                    <a:pt x="118" y="148"/>
                  </a:lnTo>
                  <a:lnTo>
                    <a:pt x="125" y="179"/>
                  </a:lnTo>
                  <a:lnTo>
                    <a:pt x="122" y="212"/>
                  </a:lnTo>
                  <a:lnTo>
                    <a:pt x="107" y="240"/>
                  </a:lnTo>
                  <a:lnTo>
                    <a:pt x="95" y="247"/>
                  </a:lnTo>
                  <a:lnTo>
                    <a:pt x="87" y="253"/>
                  </a:lnTo>
                  <a:lnTo>
                    <a:pt x="79" y="253"/>
                  </a:lnTo>
                  <a:lnTo>
                    <a:pt x="79" y="234"/>
                  </a:lnTo>
                  <a:lnTo>
                    <a:pt x="89" y="220"/>
                  </a:lnTo>
                  <a:lnTo>
                    <a:pt x="78" y="235"/>
                  </a:lnTo>
                  <a:lnTo>
                    <a:pt x="75" y="261"/>
                  </a:lnTo>
                  <a:lnTo>
                    <a:pt x="71" y="275"/>
                  </a:lnTo>
                  <a:lnTo>
                    <a:pt x="82" y="257"/>
                  </a:lnTo>
                  <a:lnTo>
                    <a:pt x="95" y="253"/>
                  </a:lnTo>
                  <a:lnTo>
                    <a:pt x="111" y="240"/>
                  </a:lnTo>
                  <a:lnTo>
                    <a:pt x="129" y="215"/>
                  </a:lnTo>
                  <a:lnTo>
                    <a:pt x="152" y="257"/>
                  </a:lnTo>
                  <a:lnTo>
                    <a:pt x="168" y="289"/>
                  </a:lnTo>
                  <a:lnTo>
                    <a:pt x="196" y="312"/>
                  </a:lnTo>
                  <a:lnTo>
                    <a:pt x="211" y="324"/>
                  </a:lnTo>
                  <a:lnTo>
                    <a:pt x="243" y="316"/>
                  </a:lnTo>
                  <a:lnTo>
                    <a:pt x="255" y="324"/>
                  </a:lnTo>
                  <a:lnTo>
                    <a:pt x="279" y="298"/>
                  </a:lnTo>
                  <a:lnTo>
                    <a:pt x="298" y="248"/>
                  </a:lnTo>
                  <a:lnTo>
                    <a:pt x="305" y="194"/>
                  </a:lnTo>
                  <a:lnTo>
                    <a:pt x="318" y="148"/>
                  </a:lnTo>
                  <a:lnTo>
                    <a:pt x="325" y="112"/>
                  </a:lnTo>
                  <a:lnTo>
                    <a:pt x="320" y="64"/>
                  </a:lnTo>
                  <a:lnTo>
                    <a:pt x="313" y="41"/>
                  </a:lnTo>
                  <a:lnTo>
                    <a:pt x="295" y="5"/>
                  </a:lnTo>
                  <a:lnTo>
                    <a:pt x="282" y="0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4840" y="5088960"/>
              <a:ext cx="51840" cy="83880"/>
            </a:xfrm>
            <a:custGeom>
              <a:avLst/>
              <a:gdLst/>
              <a:ahLst/>
              <a:rect l="l" t="t" r="r" b="b"/>
              <a:pathLst>
                <a:path w="67" h="105">
                  <a:moveTo>
                    <a:pt x="51" y="0"/>
                  </a:moveTo>
                  <a:lnTo>
                    <a:pt x="58" y="13"/>
                  </a:lnTo>
                  <a:lnTo>
                    <a:pt x="44" y="33"/>
                  </a:lnTo>
                  <a:lnTo>
                    <a:pt x="44" y="50"/>
                  </a:lnTo>
                  <a:lnTo>
                    <a:pt x="60" y="78"/>
                  </a:lnTo>
                  <a:lnTo>
                    <a:pt x="67" y="105"/>
                  </a:lnTo>
                  <a:lnTo>
                    <a:pt x="53" y="74"/>
                  </a:lnTo>
                  <a:lnTo>
                    <a:pt x="47" y="61"/>
                  </a:lnTo>
                  <a:lnTo>
                    <a:pt x="43" y="74"/>
                  </a:lnTo>
                  <a:lnTo>
                    <a:pt x="33" y="91"/>
                  </a:lnTo>
                  <a:lnTo>
                    <a:pt x="33" y="73"/>
                  </a:lnTo>
                  <a:lnTo>
                    <a:pt x="4" y="69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7" y="55"/>
                  </a:lnTo>
                  <a:lnTo>
                    <a:pt x="31" y="61"/>
                  </a:lnTo>
                  <a:lnTo>
                    <a:pt x="37" y="55"/>
                  </a:lnTo>
                  <a:lnTo>
                    <a:pt x="43" y="51"/>
                  </a:lnTo>
                  <a:lnTo>
                    <a:pt x="40" y="38"/>
                  </a:lnTo>
                  <a:lnTo>
                    <a:pt x="40" y="18"/>
                  </a:lnTo>
                  <a:lnTo>
                    <a:pt x="44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32760" y="5043240"/>
              <a:ext cx="24840" cy="745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21" y="10"/>
                  </a:moveTo>
                  <a:lnTo>
                    <a:pt x="7" y="7"/>
                  </a:lnTo>
                  <a:lnTo>
                    <a:pt x="3" y="18"/>
                  </a:lnTo>
                  <a:lnTo>
                    <a:pt x="7" y="46"/>
                  </a:lnTo>
                  <a:lnTo>
                    <a:pt x="16" y="72"/>
                  </a:lnTo>
                  <a:lnTo>
                    <a:pt x="21" y="82"/>
                  </a:lnTo>
                  <a:lnTo>
                    <a:pt x="27" y="91"/>
                  </a:lnTo>
                  <a:lnTo>
                    <a:pt x="33" y="91"/>
                  </a:lnTo>
                  <a:lnTo>
                    <a:pt x="30" y="95"/>
                  </a:lnTo>
                  <a:lnTo>
                    <a:pt x="18" y="91"/>
                  </a:lnTo>
                  <a:lnTo>
                    <a:pt x="10" y="72"/>
                  </a:lnTo>
                  <a:lnTo>
                    <a:pt x="0" y="38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56240" y="5065560"/>
              <a:ext cx="21600" cy="5688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3" y="18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29" y="26"/>
                  </a:lnTo>
                  <a:lnTo>
                    <a:pt x="27" y="63"/>
                  </a:lnTo>
                  <a:lnTo>
                    <a:pt x="27" y="28"/>
                  </a:lnTo>
                  <a:lnTo>
                    <a:pt x="20" y="26"/>
                  </a:lnTo>
                  <a:lnTo>
                    <a:pt x="19" y="54"/>
                  </a:lnTo>
                  <a:lnTo>
                    <a:pt x="5" y="72"/>
                  </a:lnTo>
                  <a:lnTo>
                    <a:pt x="9" y="49"/>
                  </a:lnTo>
                  <a:lnTo>
                    <a:pt x="0" y="33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0040" y="5171400"/>
              <a:ext cx="28080" cy="23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11" y="1"/>
                  </a:lnTo>
                  <a:lnTo>
                    <a:pt x="30" y="10"/>
                  </a:lnTo>
                  <a:lnTo>
                    <a:pt x="34" y="1"/>
                  </a:lnTo>
                  <a:lnTo>
                    <a:pt x="35" y="15"/>
                  </a:lnTo>
                  <a:lnTo>
                    <a:pt x="30" y="29"/>
                  </a:lnTo>
                  <a:lnTo>
                    <a:pt x="25" y="15"/>
                  </a:lnTo>
                  <a:lnTo>
                    <a:pt x="18" y="11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50040" y="5168520"/>
              <a:ext cx="251280" cy="99360"/>
            </a:xfrm>
            <a:custGeom>
              <a:avLst/>
              <a:gdLst/>
              <a:ahLst/>
              <a:rect l="l" t="t" r="r" b="b"/>
              <a:pathLst>
                <a:path w="320" h="125">
                  <a:moveTo>
                    <a:pt x="5" y="26"/>
                  </a:moveTo>
                  <a:lnTo>
                    <a:pt x="5" y="32"/>
                  </a:lnTo>
                  <a:lnTo>
                    <a:pt x="13" y="44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12" y="100"/>
                  </a:lnTo>
                  <a:lnTo>
                    <a:pt x="49" y="113"/>
                  </a:lnTo>
                  <a:lnTo>
                    <a:pt x="84" y="116"/>
                  </a:lnTo>
                  <a:lnTo>
                    <a:pt x="103" y="125"/>
                  </a:lnTo>
                  <a:lnTo>
                    <a:pt x="153" y="118"/>
                  </a:lnTo>
                  <a:lnTo>
                    <a:pt x="221" y="118"/>
                  </a:lnTo>
                  <a:lnTo>
                    <a:pt x="320" y="118"/>
                  </a:lnTo>
                  <a:lnTo>
                    <a:pt x="159" y="108"/>
                  </a:lnTo>
                  <a:lnTo>
                    <a:pt x="159" y="67"/>
                  </a:lnTo>
                  <a:lnTo>
                    <a:pt x="184" y="21"/>
                  </a:lnTo>
                  <a:lnTo>
                    <a:pt x="119" y="70"/>
                  </a:lnTo>
                  <a:lnTo>
                    <a:pt x="126" y="0"/>
                  </a:lnTo>
                  <a:lnTo>
                    <a:pt x="121" y="3"/>
                  </a:lnTo>
                  <a:lnTo>
                    <a:pt x="94" y="46"/>
                  </a:lnTo>
                  <a:lnTo>
                    <a:pt x="83" y="62"/>
                  </a:lnTo>
                  <a:lnTo>
                    <a:pt x="52" y="77"/>
                  </a:lnTo>
                  <a:lnTo>
                    <a:pt x="20" y="85"/>
                  </a:lnTo>
                  <a:lnTo>
                    <a:pt x="12" y="82"/>
                  </a:lnTo>
                  <a:lnTo>
                    <a:pt x="6" y="77"/>
                  </a:lnTo>
                  <a:lnTo>
                    <a:pt x="6" y="64"/>
                  </a:lnTo>
                  <a:lnTo>
                    <a:pt x="16" y="44"/>
                  </a:lnTo>
                  <a:lnTo>
                    <a:pt x="16" y="41"/>
                  </a:lnTo>
                  <a:lnTo>
                    <a:pt x="9" y="28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95200" y="5193720"/>
              <a:ext cx="26640" cy="68040"/>
            </a:xfrm>
            <a:custGeom>
              <a:avLst/>
              <a:gdLst/>
              <a:ahLst/>
              <a:rect l="l" t="t" r="r" b="b"/>
              <a:pathLst>
                <a:path w="34" h="87">
                  <a:moveTo>
                    <a:pt x="4" y="0"/>
                  </a:moveTo>
                  <a:lnTo>
                    <a:pt x="12" y="57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4" y="87"/>
                  </a:lnTo>
                  <a:lnTo>
                    <a:pt x="9" y="77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34200" y="5262120"/>
              <a:ext cx="105480" cy="171000"/>
            </a:xfrm>
            <a:custGeom>
              <a:avLst/>
              <a:gdLst/>
              <a:ahLst/>
              <a:rect l="l" t="t" r="r" b="b"/>
              <a:pathLst>
                <a:path w="132" h="215">
                  <a:moveTo>
                    <a:pt x="121" y="3"/>
                  </a:moveTo>
                  <a:lnTo>
                    <a:pt x="67" y="39"/>
                  </a:lnTo>
                  <a:lnTo>
                    <a:pt x="24" y="164"/>
                  </a:lnTo>
                  <a:lnTo>
                    <a:pt x="0" y="215"/>
                  </a:lnTo>
                  <a:lnTo>
                    <a:pt x="51" y="148"/>
                  </a:lnTo>
                  <a:lnTo>
                    <a:pt x="77" y="112"/>
                  </a:lnTo>
                  <a:lnTo>
                    <a:pt x="94" y="107"/>
                  </a:lnTo>
                  <a:lnTo>
                    <a:pt x="101" y="140"/>
                  </a:lnTo>
                  <a:lnTo>
                    <a:pt x="101" y="76"/>
                  </a:lnTo>
                  <a:lnTo>
                    <a:pt x="110" y="34"/>
                  </a:lnTo>
                  <a:lnTo>
                    <a:pt x="132" y="0"/>
                  </a:lnTo>
                  <a:lnTo>
                    <a:pt x="1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24200" y="5270040"/>
              <a:ext cx="203760" cy="94680"/>
            </a:xfrm>
            <a:custGeom>
              <a:avLst/>
              <a:gdLst/>
              <a:ahLst/>
              <a:rect l="l" t="t" r="r" b="b"/>
              <a:pathLst>
                <a:path w="260" h="122">
                  <a:moveTo>
                    <a:pt x="0" y="122"/>
                  </a:moveTo>
                  <a:lnTo>
                    <a:pt x="49" y="99"/>
                  </a:lnTo>
                  <a:lnTo>
                    <a:pt x="107" y="76"/>
                  </a:lnTo>
                  <a:lnTo>
                    <a:pt x="200" y="76"/>
                  </a:lnTo>
                  <a:lnTo>
                    <a:pt x="241" y="54"/>
                  </a:lnTo>
                  <a:lnTo>
                    <a:pt x="244" y="26"/>
                  </a:lnTo>
                  <a:lnTo>
                    <a:pt x="260" y="0"/>
                  </a:lnTo>
                  <a:lnTo>
                    <a:pt x="251" y="28"/>
                  </a:lnTo>
                  <a:lnTo>
                    <a:pt x="244" y="68"/>
                  </a:lnTo>
                  <a:lnTo>
                    <a:pt x="210" y="76"/>
                  </a:lnTo>
                  <a:lnTo>
                    <a:pt x="107" y="81"/>
                  </a:lnTo>
                  <a:lnTo>
                    <a:pt x="29" y="11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68240" y="5358600"/>
              <a:ext cx="191160" cy="231120"/>
            </a:xfrm>
            <a:custGeom>
              <a:avLst/>
              <a:gdLst/>
              <a:ahLst/>
              <a:rect l="l" t="t" r="r" b="b"/>
              <a:pathLst>
                <a:path w="242" h="293">
                  <a:moveTo>
                    <a:pt x="242" y="38"/>
                  </a:moveTo>
                  <a:lnTo>
                    <a:pt x="182" y="74"/>
                  </a:lnTo>
                  <a:lnTo>
                    <a:pt x="159" y="132"/>
                  </a:lnTo>
                  <a:lnTo>
                    <a:pt x="97" y="219"/>
                  </a:lnTo>
                  <a:lnTo>
                    <a:pt x="97" y="248"/>
                  </a:lnTo>
                  <a:lnTo>
                    <a:pt x="104" y="293"/>
                  </a:lnTo>
                  <a:lnTo>
                    <a:pt x="81" y="258"/>
                  </a:lnTo>
                  <a:lnTo>
                    <a:pt x="38" y="261"/>
                  </a:lnTo>
                  <a:lnTo>
                    <a:pt x="0" y="293"/>
                  </a:lnTo>
                  <a:lnTo>
                    <a:pt x="34" y="245"/>
                  </a:lnTo>
                  <a:lnTo>
                    <a:pt x="51" y="104"/>
                  </a:lnTo>
                  <a:lnTo>
                    <a:pt x="25" y="127"/>
                  </a:lnTo>
                  <a:lnTo>
                    <a:pt x="50" y="13"/>
                  </a:lnTo>
                  <a:lnTo>
                    <a:pt x="34" y="15"/>
                  </a:lnTo>
                  <a:lnTo>
                    <a:pt x="47" y="10"/>
                  </a:lnTo>
                  <a:lnTo>
                    <a:pt x="57" y="10"/>
                  </a:lnTo>
                  <a:lnTo>
                    <a:pt x="70" y="18"/>
                  </a:lnTo>
                  <a:lnTo>
                    <a:pt x="70" y="0"/>
                  </a:lnTo>
                  <a:lnTo>
                    <a:pt x="74" y="25"/>
                  </a:lnTo>
                  <a:lnTo>
                    <a:pt x="81" y="33"/>
                  </a:lnTo>
                  <a:lnTo>
                    <a:pt x="97" y="36"/>
                  </a:lnTo>
                  <a:lnTo>
                    <a:pt x="104" y="28"/>
                  </a:lnTo>
                  <a:lnTo>
                    <a:pt x="110" y="20"/>
                  </a:lnTo>
                  <a:lnTo>
                    <a:pt x="110" y="33"/>
                  </a:lnTo>
                  <a:lnTo>
                    <a:pt x="108" y="44"/>
                  </a:lnTo>
                  <a:lnTo>
                    <a:pt x="104" y="77"/>
                  </a:lnTo>
                  <a:lnTo>
                    <a:pt x="101" y="163"/>
                  </a:lnTo>
                  <a:lnTo>
                    <a:pt x="137" y="140"/>
                  </a:lnTo>
                  <a:lnTo>
                    <a:pt x="152" y="127"/>
                  </a:lnTo>
                  <a:lnTo>
                    <a:pt x="179" y="64"/>
                  </a:lnTo>
                  <a:lnTo>
                    <a:pt x="238" y="33"/>
                  </a:lnTo>
                  <a:lnTo>
                    <a:pt x="24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2640" y="5173200"/>
              <a:ext cx="135720" cy="185400"/>
            </a:xfrm>
            <a:custGeom>
              <a:avLst/>
              <a:gdLst/>
              <a:ahLst/>
              <a:rect l="l" t="t" r="r" b="b"/>
              <a:pathLst>
                <a:path w="173" h="236">
                  <a:moveTo>
                    <a:pt x="99" y="231"/>
                  </a:moveTo>
                  <a:lnTo>
                    <a:pt x="173" y="96"/>
                  </a:lnTo>
                  <a:lnTo>
                    <a:pt x="173" y="78"/>
                  </a:lnTo>
                  <a:lnTo>
                    <a:pt x="149" y="17"/>
                  </a:lnTo>
                  <a:lnTo>
                    <a:pt x="133" y="14"/>
                  </a:lnTo>
                  <a:lnTo>
                    <a:pt x="143" y="22"/>
                  </a:lnTo>
                  <a:lnTo>
                    <a:pt x="169" y="78"/>
                  </a:lnTo>
                  <a:lnTo>
                    <a:pt x="169" y="89"/>
                  </a:lnTo>
                  <a:lnTo>
                    <a:pt x="149" y="66"/>
                  </a:lnTo>
                  <a:lnTo>
                    <a:pt x="149" y="45"/>
                  </a:lnTo>
                  <a:lnTo>
                    <a:pt x="103" y="0"/>
                  </a:lnTo>
                  <a:lnTo>
                    <a:pt x="80" y="10"/>
                  </a:lnTo>
                  <a:lnTo>
                    <a:pt x="103" y="5"/>
                  </a:lnTo>
                  <a:lnTo>
                    <a:pt x="137" y="48"/>
                  </a:lnTo>
                  <a:lnTo>
                    <a:pt x="127" y="53"/>
                  </a:lnTo>
                  <a:lnTo>
                    <a:pt x="119" y="55"/>
                  </a:lnTo>
                  <a:lnTo>
                    <a:pt x="102" y="28"/>
                  </a:lnTo>
                  <a:lnTo>
                    <a:pt x="63" y="10"/>
                  </a:lnTo>
                  <a:lnTo>
                    <a:pt x="47" y="17"/>
                  </a:lnTo>
                  <a:lnTo>
                    <a:pt x="63" y="22"/>
                  </a:lnTo>
                  <a:lnTo>
                    <a:pt x="102" y="35"/>
                  </a:lnTo>
                  <a:lnTo>
                    <a:pt x="90" y="48"/>
                  </a:lnTo>
                  <a:lnTo>
                    <a:pt x="36" y="22"/>
                  </a:lnTo>
                  <a:lnTo>
                    <a:pt x="5" y="66"/>
                  </a:lnTo>
                  <a:lnTo>
                    <a:pt x="7" y="94"/>
                  </a:lnTo>
                  <a:lnTo>
                    <a:pt x="25" y="58"/>
                  </a:lnTo>
                  <a:lnTo>
                    <a:pt x="25" y="53"/>
                  </a:lnTo>
                  <a:lnTo>
                    <a:pt x="33" y="28"/>
                  </a:lnTo>
                  <a:lnTo>
                    <a:pt x="56" y="40"/>
                  </a:lnTo>
                  <a:lnTo>
                    <a:pt x="39" y="81"/>
                  </a:lnTo>
                  <a:lnTo>
                    <a:pt x="20" y="122"/>
                  </a:lnTo>
                  <a:lnTo>
                    <a:pt x="9" y="167"/>
                  </a:lnTo>
                  <a:lnTo>
                    <a:pt x="13" y="198"/>
                  </a:lnTo>
                  <a:lnTo>
                    <a:pt x="16" y="211"/>
                  </a:lnTo>
                  <a:lnTo>
                    <a:pt x="0" y="229"/>
                  </a:lnTo>
                  <a:lnTo>
                    <a:pt x="29" y="213"/>
                  </a:lnTo>
                  <a:lnTo>
                    <a:pt x="54" y="216"/>
                  </a:lnTo>
                  <a:lnTo>
                    <a:pt x="54" y="229"/>
                  </a:lnTo>
                  <a:lnTo>
                    <a:pt x="60" y="213"/>
                  </a:lnTo>
                  <a:lnTo>
                    <a:pt x="76" y="216"/>
                  </a:lnTo>
                  <a:lnTo>
                    <a:pt x="86" y="221"/>
                  </a:lnTo>
                  <a:lnTo>
                    <a:pt x="96" y="236"/>
                  </a:lnTo>
                  <a:lnTo>
                    <a:pt x="9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33600" y="5255640"/>
              <a:ext cx="241920" cy="532440"/>
            </a:xfrm>
            <a:custGeom>
              <a:avLst/>
              <a:gdLst/>
              <a:ahLst/>
              <a:rect l="l" t="t" r="r" b="b"/>
              <a:pathLst>
                <a:path w="307" h="673">
                  <a:moveTo>
                    <a:pt x="195" y="0"/>
                  </a:moveTo>
                  <a:lnTo>
                    <a:pt x="185" y="36"/>
                  </a:lnTo>
                  <a:lnTo>
                    <a:pt x="184" y="68"/>
                  </a:lnTo>
                  <a:lnTo>
                    <a:pt x="185" y="94"/>
                  </a:lnTo>
                  <a:lnTo>
                    <a:pt x="193" y="112"/>
                  </a:lnTo>
                  <a:lnTo>
                    <a:pt x="193" y="122"/>
                  </a:lnTo>
                  <a:lnTo>
                    <a:pt x="185" y="127"/>
                  </a:lnTo>
                  <a:lnTo>
                    <a:pt x="185" y="150"/>
                  </a:lnTo>
                  <a:lnTo>
                    <a:pt x="195" y="155"/>
                  </a:lnTo>
                  <a:lnTo>
                    <a:pt x="188" y="163"/>
                  </a:lnTo>
                  <a:lnTo>
                    <a:pt x="150" y="331"/>
                  </a:lnTo>
                  <a:lnTo>
                    <a:pt x="137" y="406"/>
                  </a:lnTo>
                  <a:lnTo>
                    <a:pt x="134" y="446"/>
                  </a:lnTo>
                  <a:lnTo>
                    <a:pt x="137" y="470"/>
                  </a:lnTo>
                  <a:lnTo>
                    <a:pt x="154" y="447"/>
                  </a:lnTo>
                  <a:lnTo>
                    <a:pt x="133" y="488"/>
                  </a:lnTo>
                  <a:lnTo>
                    <a:pt x="106" y="538"/>
                  </a:lnTo>
                  <a:lnTo>
                    <a:pt x="141" y="541"/>
                  </a:lnTo>
                  <a:lnTo>
                    <a:pt x="181" y="569"/>
                  </a:lnTo>
                  <a:lnTo>
                    <a:pt x="208" y="525"/>
                  </a:lnTo>
                  <a:lnTo>
                    <a:pt x="251" y="538"/>
                  </a:lnTo>
                  <a:lnTo>
                    <a:pt x="274" y="502"/>
                  </a:lnTo>
                  <a:lnTo>
                    <a:pt x="278" y="428"/>
                  </a:lnTo>
                  <a:lnTo>
                    <a:pt x="290" y="510"/>
                  </a:lnTo>
                  <a:lnTo>
                    <a:pt x="307" y="582"/>
                  </a:lnTo>
                  <a:lnTo>
                    <a:pt x="302" y="635"/>
                  </a:lnTo>
                  <a:lnTo>
                    <a:pt x="295" y="569"/>
                  </a:lnTo>
                  <a:lnTo>
                    <a:pt x="274" y="531"/>
                  </a:lnTo>
                  <a:lnTo>
                    <a:pt x="248" y="582"/>
                  </a:lnTo>
                  <a:lnTo>
                    <a:pt x="201" y="673"/>
                  </a:lnTo>
                  <a:lnTo>
                    <a:pt x="154" y="617"/>
                  </a:lnTo>
                  <a:lnTo>
                    <a:pt x="86" y="587"/>
                  </a:lnTo>
                  <a:lnTo>
                    <a:pt x="83" y="556"/>
                  </a:lnTo>
                  <a:lnTo>
                    <a:pt x="98" y="520"/>
                  </a:lnTo>
                  <a:lnTo>
                    <a:pt x="0" y="477"/>
                  </a:lnTo>
                  <a:lnTo>
                    <a:pt x="0" y="337"/>
                  </a:lnTo>
                  <a:lnTo>
                    <a:pt x="13" y="424"/>
                  </a:lnTo>
                  <a:lnTo>
                    <a:pt x="49" y="410"/>
                  </a:lnTo>
                  <a:lnTo>
                    <a:pt x="71" y="446"/>
                  </a:lnTo>
                  <a:lnTo>
                    <a:pt x="107" y="433"/>
                  </a:lnTo>
                  <a:lnTo>
                    <a:pt x="101" y="387"/>
                  </a:lnTo>
                  <a:lnTo>
                    <a:pt x="111" y="344"/>
                  </a:lnTo>
                  <a:lnTo>
                    <a:pt x="107" y="388"/>
                  </a:lnTo>
                  <a:lnTo>
                    <a:pt x="114" y="401"/>
                  </a:lnTo>
                  <a:lnTo>
                    <a:pt x="130" y="401"/>
                  </a:lnTo>
                  <a:lnTo>
                    <a:pt x="148" y="319"/>
                  </a:lnTo>
                  <a:lnTo>
                    <a:pt x="185" y="158"/>
                  </a:lnTo>
                  <a:lnTo>
                    <a:pt x="184" y="150"/>
                  </a:lnTo>
                  <a:lnTo>
                    <a:pt x="184" y="122"/>
                  </a:lnTo>
                  <a:lnTo>
                    <a:pt x="185" y="117"/>
                  </a:lnTo>
                  <a:lnTo>
                    <a:pt x="180" y="76"/>
                  </a:lnTo>
                  <a:lnTo>
                    <a:pt x="181" y="36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71200" y="5401440"/>
              <a:ext cx="206640" cy="231120"/>
            </a:xfrm>
            <a:custGeom>
              <a:avLst/>
              <a:gdLst/>
              <a:ahLst/>
              <a:rect l="l" t="t" r="r" b="b"/>
              <a:pathLst>
                <a:path w="263" h="291">
                  <a:moveTo>
                    <a:pt x="23" y="163"/>
                  </a:moveTo>
                  <a:lnTo>
                    <a:pt x="70" y="85"/>
                  </a:lnTo>
                  <a:lnTo>
                    <a:pt x="160" y="18"/>
                  </a:lnTo>
                  <a:lnTo>
                    <a:pt x="263" y="0"/>
                  </a:lnTo>
                  <a:lnTo>
                    <a:pt x="164" y="39"/>
                  </a:lnTo>
                  <a:lnTo>
                    <a:pt x="93" y="120"/>
                  </a:lnTo>
                  <a:lnTo>
                    <a:pt x="62" y="215"/>
                  </a:lnTo>
                  <a:lnTo>
                    <a:pt x="0" y="291"/>
                  </a:lnTo>
                  <a:lnTo>
                    <a:pt x="46" y="215"/>
                  </a:lnTo>
                  <a:lnTo>
                    <a:pt x="55" y="145"/>
                  </a:lnTo>
                  <a:lnTo>
                    <a:pt x="46" y="140"/>
                  </a:lnTo>
                  <a:lnTo>
                    <a:pt x="2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01320" y="5321880"/>
              <a:ext cx="77400" cy="168120"/>
            </a:xfrm>
            <a:custGeom>
              <a:avLst/>
              <a:gdLst/>
              <a:ahLst/>
              <a:rect l="l" t="t" r="r" b="b"/>
              <a:pathLst>
                <a:path w="99" h="212">
                  <a:moveTo>
                    <a:pt x="13" y="0"/>
                  </a:moveTo>
                  <a:lnTo>
                    <a:pt x="49" y="59"/>
                  </a:lnTo>
                  <a:lnTo>
                    <a:pt x="63" y="113"/>
                  </a:lnTo>
                  <a:lnTo>
                    <a:pt x="94" y="148"/>
                  </a:lnTo>
                  <a:lnTo>
                    <a:pt x="99" y="202"/>
                  </a:lnTo>
                  <a:lnTo>
                    <a:pt x="79" y="212"/>
                  </a:lnTo>
                  <a:lnTo>
                    <a:pt x="91" y="157"/>
                  </a:lnTo>
                  <a:lnTo>
                    <a:pt x="52" y="149"/>
                  </a:lnTo>
                  <a:lnTo>
                    <a:pt x="44" y="139"/>
                  </a:lnTo>
                  <a:lnTo>
                    <a:pt x="44" y="172"/>
                  </a:lnTo>
                  <a:lnTo>
                    <a:pt x="33" y="88"/>
                  </a:lnTo>
                  <a:lnTo>
                    <a:pt x="16" y="23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62680" y="5412600"/>
              <a:ext cx="774360" cy="478080"/>
            </a:xfrm>
            <a:custGeom>
              <a:avLst/>
              <a:gdLst/>
              <a:ahLst/>
              <a:rect l="l" t="t" r="r" b="b"/>
              <a:pathLst>
                <a:path w="980" h="604">
                  <a:moveTo>
                    <a:pt x="968" y="107"/>
                  </a:moveTo>
                  <a:lnTo>
                    <a:pt x="948" y="84"/>
                  </a:lnTo>
                  <a:lnTo>
                    <a:pt x="910" y="84"/>
                  </a:lnTo>
                  <a:lnTo>
                    <a:pt x="867" y="102"/>
                  </a:lnTo>
                  <a:lnTo>
                    <a:pt x="800" y="150"/>
                  </a:lnTo>
                  <a:lnTo>
                    <a:pt x="725" y="234"/>
                  </a:lnTo>
                  <a:lnTo>
                    <a:pt x="673" y="303"/>
                  </a:lnTo>
                  <a:lnTo>
                    <a:pt x="632" y="396"/>
                  </a:lnTo>
                  <a:lnTo>
                    <a:pt x="603" y="482"/>
                  </a:lnTo>
                  <a:lnTo>
                    <a:pt x="581" y="604"/>
                  </a:lnTo>
                  <a:lnTo>
                    <a:pt x="0" y="604"/>
                  </a:lnTo>
                  <a:lnTo>
                    <a:pt x="47" y="590"/>
                  </a:lnTo>
                  <a:lnTo>
                    <a:pt x="36" y="567"/>
                  </a:lnTo>
                  <a:lnTo>
                    <a:pt x="70" y="546"/>
                  </a:lnTo>
                  <a:lnTo>
                    <a:pt x="101" y="562"/>
                  </a:lnTo>
                  <a:lnTo>
                    <a:pt x="133" y="554"/>
                  </a:lnTo>
                  <a:lnTo>
                    <a:pt x="160" y="502"/>
                  </a:lnTo>
                  <a:lnTo>
                    <a:pt x="211" y="464"/>
                  </a:lnTo>
                  <a:lnTo>
                    <a:pt x="213" y="396"/>
                  </a:lnTo>
                  <a:lnTo>
                    <a:pt x="220" y="510"/>
                  </a:lnTo>
                  <a:lnTo>
                    <a:pt x="248" y="533"/>
                  </a:lnTo>
                  <a:lnTo>
                    <a:pt x="255" y="414"/>
                  </a:lnTo>
                  <a:lnTo>
                    <a:pt x="291" y="464"/>
                  </a:lnTo>
                  <a:lnTo>
                    <a:pt x="291" y="513"/>
                  </a:lnTo>
                  <a:lnTo>
                    <a:pt x="358" y="378"/>
                  </a:lnTo>
                  <a:lnTo>
                    <a:pt x="389" y="391"/>
                  </a:lnTo>
                  <a:lnTo>
                    <a:pt x="384" y="339"/>
                  </a:lnTo>
                  <a:lnTo>
                    <a:pt x="419" y="289"/>
                  </a:lnTo>
                  <a:lnTo>
                    <a:pt x="447" y="296"/>
                  </a:lnTo>
                  <a:lnTo>
                    <a:pt x="603" y="72"/>
                  </a:lnTo>
                  <a:lnTo>
                    <a:pt x="561" y="54"/>
                  </a:lnTo>
                  <a:lnTo>
                    <a:pt x="666" y="0"/>
                  </a:lnTo>
                  <a:lnTo>
                    <a:pt x="846" y="58"/>
                  </a:lnTo>
                  <a:lnTo>
                    <a:pt x="847" y="99"/>
                  </a:lnTo>
                  <a:lnTo>
                    <a:pt x="908" y="81"/>
                  </a:lnTo>
                  <a:lnTo>
                    <a:pt x="953" y="81"/>
                  </a:lnTo>
                  <a:lnTo>
                    <a:pt x="980" y="107"/>
                  </a:lnTo>
                  <a:lnTo>
                    <a:pt x="977" y="132"/>
                  </a:lnTo>
                  <a:lnTo>
                    <a:pt x="933" y="207"/>
                  </a:lnTo>
                  <a:lnTo>
                    <a:pt x="894" y="308"/>
                  </a:lnTo>
                  <a:lnTo>
                    <a:pt x="871" y="406"/>
                  </a:lnTo>
                  <a:lnTo>
                    <a:pt x="861" y="497"/>
                  </a:lnTo>
                  <a:lnTo>
                    <a:pt x="859" y="587"/>
                  </a:lnTo>
                  <a:lnTo>
                    <a:pt x="856" y="472"/>
                  </a:lnTo>
                  <a:lnTo>
                    <a:pt x="877" y="334"/>
                  </a:lnTo>
                  <a:lnTo>
                    <a:pt x="910" y="229"/>
                  </a:lnTo>
                  <a:lnTo>
                    <a:pt x="940" y="166"/>
                  </a:lnTo>
                  <a:lnTo>
                    <a:pt x="877" y="224"/>
                  </a:lnTo>
                  <a:lnTo>
                    <a:pt x="816" y="289"/>
                  </a:lnTo>
                  <a:lnTo>
                    <a:pt x="764" y="357"/>
                  </a:lnTo>
                  <a:lnTo>
                    <a:pt x="840" y="243"/>
                  </a:lnTo>
                  <a:lnTo>
                    <a:pt x="894" y="184"/>
                  </a:lnTo>
                  <a:lnTo>
                    <a:pt x="971" y="127"/>
                  </a:lnTo>
                  <a:lnTo>
                    <a:pt x="96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43320" y="5482440"/>
              <a:ext cx="111960" cy="43920"/>
            </a:xfrm>
            <a:custGeom>
              <a:avLst/>
              <a:gdLst/>
              <a:ahLst/>
              <a:rect l="l" t="t" r="r" b="b"/>
              <a:pathLst>
                <a:path w="143" h="56">
                  <a:moveTo>
                    <a:pt x="0" y="49"/>
                  </a:moveTo>
                  <a:lnTo>
                    <a:pt x="65" y="0"/>
                  </a:lnTo>
                  <a:lnTo>
                    <a:pt x="110" y="28"/>
                  </a:lnTo>
                  <a:lnTo>
                    <a:pt x="143" y="25"/>
                  </a:lnTo>
                  <a:lnTo>
                    <a:pt x="137" y="43"/>
                  </a:lnTo>
                  <a:lnTo>
                    <a:pt x="99" y="56"/>
                  </a:lnTo>
                  <a:lnTo>
                    <a:pt x="65" y="1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1560" y="5496120"/>
              <a:ext cx="398160" cy="136440"/>
            </a:xfrm>
            <a:custGeom>
              <a:avLst/>
              <a:gdLst/>
              <a:ahLst/>
              <a:rect l="l" t="t" r="r" b="b"/>
              <a:pathLst>
                <a:path w="503" h="171">
                  <a:moveTo>
                    <a:pt x="503" y="171"/>
                  </a:moveTo>
                  <a:lnTo>
                    <a:pt x="351" y="135"/>
                  </a:lnTo>
                  <a:lnTo>
                    <a:pt x="296" y="128"/>
                  </a:lnTo>
                  <a:lnTo>
                    <a:pt x="265" y="136"/>
                  </a:lnTo>
                  <a:lnTo>
                    <a:pt x="227" y="140"/>
                  </a:lnTo>
                  <a:lnTo>
                    <a:pt x="188" y="132"/>
                  </a:lnTo>
                  <a:lnTo>
                    <a:pt x="157" y="108"/>
                  </a:lnTo>
                  <a:lnTo>
                    <a:pt x="133" y="77"/>
                  </a:lnTo>
                  <a:lnTo>
                    <a:pt x="115" y="67"/>
                  </a:lnTo>
                  <a:lnTo>
                    <a:pt x="93" y="56"/>
                  </a:lnTo>
                  <a:lnTo>
                    <a:pt x="85" y="54"/>
                  </a:lnTo>
                  <a:lnTo>
                    <a:pt x="57" y="67"/>
                  </a:lnTo>
                  <a:lnTo>
                    <a:pt x="26" y="104"/>
                  </a:lnTo>
                  <a:lnTo>
                    <a:pt x="16" y="108"/>
                  </a:lnTo>
                  <a:lnTo>
                    <a:pt x="10" y="104"/>
                  </a:lnTo>
                  <a:lnTo>
                    <a:pt x="43" y="54"/>
                  </a:lnTo>
                  <a:lnTo>
                    <a:pt x="14" y="56"/>
                  </a:lnTo>
                  <a:lnTo>
                    <a:pt x="0" y="43"/>
                  </a:lnTo>
                  <a:lnTo>
                    <a:pt x="6" y="38"/>
                  </a:lnTo>
                  <a:lnTo>
                    <a:pt x="73" y="0"/>
                  </a:lnTo>
                  <a:lnTo>
                    <a:pt x="38" y="25"/>
                  </a:lnTo>
                  <a:lnTo>
                    <a:pt x="84" y="10"/>
                  </a:lnTo>
                  <a:lnTo>
                    <a:pt x="97" y="13"/>
                  </a:lnTo>
                  <a:lnTo>
                    <a:pt x="115" y="25"/>
                  </a:lnTo>
                  <a:lnTo>
                    <a:pt x="155" y="51"/>
                  </a:lnTo>
                  <a:lnTo>
                    <a:pt x="120" y="31"/>
                  </a:lnTo>
                  <a:lnTo>
                    <a:pt x="90" y="18"/>
                  </a:lnTo>
                  <a:lnTo>
                    <a:pt x="81" y="20"/>
                  </a:lnTo>
                  <a:lnTo>
                    <a:pt x="81" y="31"/>
                  </a:lnTo>
                  <a:lnTo>
                    <a:pt x="97" y="38"/>
                  </a:lnTo>
                  <a:lnTo>
                    <a:pt x="124" y="51"/>
                  </a:lnTo>
                  <a:lnTo>
                    <a:pt x="137" y="64"/>
                  </a:lnTo>
                  <a:lnTo>
                    <a:pt x="152" y="77"/>
                  </a:lnTo>
                  <a:lnTo>
                    <a:pt x="187" y="87"/>
                  </a:lnTo>
                  <a:lnTo>
                    <a:pt x="219" y="95"/>
                  </a:lnTo>
                  <a:lnTo>
                    <a:pt x="254" y="99"/>
                  </a:lnTo>
                  <a:lnTo>
                    <a:pt x="289" y="90"/>
                  </a:lnTo>
                  <a:lnTo>
                    <a:pt x="344" y="92"/>
                  </a:lnTo>
                  <a:lnTo>
                    <a:pt x="498" y="99"/>
                  </a:lnTo>
                  <a:lnTo>
                    <a:pt x="503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09600" y="5490000"/>
              <a:ext cx="325800" cy="59760"/>
            </a:xfrm>
            <a:custGeom>
              <a:avLst/>
              <a:gdLst/>
              <a:ahLst/>
              <a:rect l="l" t="t" r="r" b="b"/>
              <a:pathLst>
                <a:path w="413" h="75">
                  <a:moveTo>
                    <a:pt x="0" y="8"/>
                  </a:moveTo>
                  <a:lnTo>
                    <a:pt x="52" y="8"/>
                  </a:lnTo>
                  <a:lnTo>
                    <a:pt x="77" y="0"/>
                  </a:lnTo>
                  <a:lnTo>
                    <a:pt x="187" y="57"/>
                  </a:lnTo>
                  <a:lnTo>
                    <a:pt x="224" y="64"/>
                  </a:lnTo>
                  <a:lnTo>
                    <a:pt x="413" y="64"/>
                  </a:lnTo>
                  <a:lnTo>
                    <a:pt x="413" y="75"/>
                  </a:lnTo>
                  <a:lnTo>
                    <a:pt x="193" y="64"/>
                  </a:lnTo>
                  <a:lnTo>
                    <a:pt x="149" y="46"/>
                  </a:lnTo>
                  <a:lnTo>
                    <a:pt x="82" y="8"/>
                  </a:lnTo>
                  <a:lnTo>
                    <a:pt x="72" y="8"/>
                  </a:lnTo>
                  <a:lnTo>
                    <a:pt x="43" y="15"/>
                  </a:lnTo>
                  <a:lnTo>
                    <a:pt x="39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48360" y="5666040"/>
              <a:ext cx="988200" cy="224640"/>
            </a:xfrm>
            <a:custGeom>
              <a:avLst/>
              <a:gdLst/>
              <a:ahLst/>
              <a:rect l="l" t="t" r="r" b="b"/>
              <a:pathLst>
                <a:path w="1249" h="283">
                  <a:moveTo>
                    <a:pt x="1249" y="138"/>
                  </a:moveTo>
                  <a:lnTo>
                    <a:pt x="1183" y="163"/>
                  </a:lnTo>
                  <a:lnTo>
                    <a:pt x="1069" y="163"/>
                  </a:lnTo>
                  <a:lnTo>
                    <a:pt x="807" y="283"/>
                  </a:lnTo>
                  <a:lnTo>
                    <a:pt x="0" y="283"/>
                  </a:lnTo>
                  <a:lnTo>
                    <a:pt x="0" y="148"/>
                  </a:lnTo>
                  <a:lnTo>
                    <a:pt x="1217" y="0"/>
                  </a:lnTo>
                  <a:lnTo>
                    <a:pt x="1217" y="62"/>
                  </a:lnTo>
                  <a:lnTo>
                    <a:pt x="1249" y="80"/>
                  </a:lnTo>
                  <a:lnTo>
                    <a:pt x="1249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12160" y="5157360"/>
              <a:ext cx="20520" cy="248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33"/>
                  </a:moveTo>
                  <a:lnTo>
                    <a:pt x="0" y="0"/>
                  </a:lnTo>
                  <a:lnTo>
                    <a:pt x="25" y="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13960" y="5158800"/>
              <a:ext cx="900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4" y="18"/>
                  </a:moveTo>
                  <a:lnTo>
                    <a:pt x="7" y="14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1360" y="5285520"/>
              <a:ext cx="37800" cy="6156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9" y="0"/>
                  </a:moveTo>
                  <a:lnTo>
                    <a:pt x="49" y="69"/>
                  </a:lnTo>
                  <a:lnTo>
                    <a:pt x="49" y="72"/>
                  </a:lnTo>
                  <a:lnTo>
                    <a:pt x="47" y="74"/>
                  </a:lnTo>
                  <a:lnTo>
                    <a:pt x="43" y="77"/>
                  </a:lnTo>
                  <a:lnTo>
                    <a:pt x="40" y="77"/>
                  </a:lnTo>
                  <a:lnTo>
                    <a:pt x="37" y="74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0960" y="5572440"/>
              <a:ext cx="521640" cy="79200"/>
            </a:xfrm>
            <a:custGeom>
              <a:avLst/>
              <a:gdLst/>
              <a:ahLst/>
              <a:rect l="l" t="t" r="r" b="b"/>
              <a:pathLst>
                <a:path w="660" h="101">
                  <a:moveTo>
                    <a:pt x="660" y="45"/>
                  </a:moveTo>
                  <a:lnTo>
                    <a:pt x="173" y="10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79" y="81"/>
                  </a:lnTo>
                  <a:lnTo>
                    <a:pt x="655" y="32"/>
                  </a:lnTo>
                  <a:lnTo>
                    <a:pt x="66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098480" y="5545080"/>
              <a:ext cx="428400" cy="3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48360" y="5364720"/>
              <a:ext cx="150120" cy="218520"/>
            </a:xfrm>
            <a:custGeom>
              <a:avLst/>
              <a:gdLst/>
              <a:ahLst/>
              <a:rect l="l" t="t" r="r" b="b"/>
              <a:pathLst>
                <a:path w="188" h="274">
                  <a:moveTo>
                    <a:pt x="188" y="274"/>
                  </a:moveTo>
                  <a:lnTo>
                    <a:pt x="188" y="62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88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48360" y="5364720"/>
              <a:ext cx="7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51240" y="4997160"/>
              <a:ext cx="146880" cy="393120"/>
            </a:xfrm>
            <a:custGeom>
              <a:avLst/>
              <a:gdLst/>
              <a:ahLst/>
              <a:rect l="l" t="t" r="r" b="b"/>
              <a:pathLst>
                <a:path w="185" h="496">
                  <a:moveTo>
                    <a:pt x="97" y="470"/>
                  </a:moveTo>
                  <a:lnTo>
                    <a:pt x="97" y="439"/>
                  </a:lnTo>
                  <a:lnTo>
                    <a:pt x="0" y="411"/>
                  </a:lnTo>
                  <a:lnTo>
                    <a:pt x="0" y="190"/>
                  </a:lnTo>
                  <a:lnTo>
                    <a:pt x="97" y="134"/>
                  </a:lnTo>
                  <a:lnTo>
                    <a:pt x="97" y="50"/>
                  </a:lnTo>
                  <a:lnTo>
                    <a:pt x="179" y="0"/>
                  </a:lnTo>
                  <a:lnTo>
                    <a:pt x="185" y="496"/>
                  </a:lnTo>
                  <a:lnTo>
                    <a:pt x="97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93440" y="4997160"/>
              <a:ext cx="365400" cy="393120"/>
            </a:xfrm>
            <a:custGeom>
              <a:avLst/>
              <a:gdLst/>
              <a:ahLst/>
              <a:rect l="l" t="t" r="r" b="b"/>
              <a:pathLst>
                <a:path w="462" h="496">
                  <a:moveTo>
                    <a:pt x="6" y="496"/>
                  </a:moveTo>
                  <a:lnTo>
                    <a:pt x="462" y="483"/>
                  </a:lnTo>
                  <a:lnTo>
                    <a:pt x="447" y="1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31600" y="5043240"/>
              <a:ext cx="290880" cy="304200"/>
            </a:xfrm>
            <a:custGeom>
              <a:avLst/>
              <a:gdLst/>
              <a:ahLst/>
              <a:rect l="l" t="t" r="r" b="b"/>
              <a:pathLst>
                <a:path w="368" h="383">
                  <a:moveTo>
                    <a:pt x="0" y="0"/>
                  </a:moveTo>
                  <a:lnTo>
                    <a:pt x="10" y="383"/>
                  </a:lnTo>
                  <a:lnTo>
                    <a:pt x="368" y="378"/>
                  </a:lnTo>
                  <a:lnTo>
                    <a:pt x="355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1600" y="5043240"/>
              <a:ext cx="290880" cy="299520"/>
            </a:xfrm>
            <a:custGeom>
              <a:avLst/>
              <a:gdLst/>
              <a:ahLst/>
              <a:rect l="l" t="t" r="r" b="b"/>
              <a:pathLst>
                <a:path w="368" h="378">
                  <a:moveTo>
                    <a:pt x="0" y="13"/>
                  </a:moveTo>
                  <a:lnTo>
                    <a:pt x="348" y="23"/>
                  </a:lnTo>
                  <a:lnTo>
                    <a:pt x="359" y="378"/>
                  </a:lnTo>
                  <a:lnTo>
                    <a:pt x="368" y="378"/>
                  </a:lnTo>
                  <a:lnTo>
                    <a:pt x="355" y="13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98480" y="5404680"/>
              <a:ext cx="394920" cy="96480"/>
            </a:xfrm>
            <a:custGeom>
              <a:avLst/>
              <a:gdLst/>
              <a:ahLst/>
              <a:rect l="l" t="t" r="r" b="b"/>
              <a:pathLst>
                <a:path w="501" h="122">
                  <a:moveTo>
                    <a:pt x="0" y="15"/>
                  </a:moveTo>
                  <a:lnTo>
                    <a:pt x="501" y="0"/>
                  </a:lnTo>
                  <a:lnTo>
                    <a:pt x="501" y="1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387560" y="5382000"/>
              <a:ext cx="105480" cy="2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22240" y="5447520"/>
              <a:ext cx="32760" cy="248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0"/>
                  </a:moveTo>
                  <a:lnTo>
                    <a:pt x="0" y="32"/>
                  </a:lnTo>
                  <a:lnTo>
                    <a:pt x="43" y="28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59120" y="5426640"/>
              <a:ext cx="115200" cy="39600"/>
            </a:xfrm>
            <a:custGeom>
              <a:avLst/>
              <a:gdLst/>
              <a:ahLst/>
              <a:rect l="l" t="t" r="r" b="b"/>
              <a:pathLst>
                <a:path w="147" h="49">
                  <a:moveTo>
                    <a:pt x="147" y="0"/>
                  </a:moveTo>
                  <a:lnTo>
                    <a:pt x="0" y="8"/>
                  </a:lnTo>
                  <a:lnTo>
                    <a:pt x="0" y="49"/>
                  </a:lnTo>
                  <a:lnTo>
                    <a:pt x="147" y="3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93760" y="5469480"/>
              <a:ext cx="469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23320" y="5469480"/>
              <a:ext cx="6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5C2-B354-49EF-A65F-2979DE5EF369}" type="slidenum">
              <a:t>39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523880"/>
            <a:ext cx="784872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ko-KR" sz="2800" spc="-1" strike="noStrike">
                <a:solidFill>
                  <a:srgbClr val="00ccff"/>
                </a:solidFill>
                <a:latin typeface="HY헤드라인M"/>
                <a:ea typeface="HY헤드라인M"/>
              </a:rPr>
              <a:t>개정 방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명세서 서식 변경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하여 별도의 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.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목 신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6. 1</a:t>
            </a: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일 진료분부터 적용 가능</a:t>
            </a: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프로그램 변경이 곤란한 요양기관은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종전 서식의 항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.</a:t>
            </a: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목 활용 가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</a:t>
            </a: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12.31 </a:t>
            </a: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청구분 까지</a:t>
            </a:r>
            <a:r>
              <a:rPr b="1" lang="ko-KR" sz="28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8BF1-7038-49C8-820C-253E663D4F7F}" type="slidenum">
              <a:t>4</a:t>
            </a:fld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423040" y="38098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7162920" y="325584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717696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08040" y="302436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116000" y="2278080"/>
            <a:ext cx="6929280" cy="457200"/>
            <a:chOff x="1116000" y="2278080"/>
            <a:chExt cx="6929280" cy="457200"/>
          </a:xfrm>
        </p:grpSpPr>
        <p:sp>
          <p:nvSpPr>
            <p:cNvPr id="318" name=""/>
            <p:cNvSpPr/>
            <p:nvPr/>
          </p:nvSpPr>
          <p:spPr>
            <a:xfrm>
              <a:off x="1116000" y="248112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79560" y="2481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82800" y="2278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79840" y="2481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30880" y="2481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6800" y="24811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329080" cy="754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819520" y="16002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질병코드지표 조회시스템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250920" y="2709720"/>
            <a:ext cx="1695240" cy="2009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9280" y="3286080"/>
            <a:ext cx="17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HY견고딕"/>
              </a:rPr>
              <a:t>불완전코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HY견고딕"/>
              </a:rPr>
              <a:t>기재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8" name=""/>
          <p:cNvCxnSpPr/>
          <p:nvPr/>
        </p:nvCxnSpPr>
        <p:spPr>
          <a:xfrm>
            <a:off x="1042560" y="2709360"/>
            <a:ext cx="1801080" cy="1008720"/>
          </a:xfrm>
          <a:prstGeom prst="bentConnector3">
            <a:avLst>
              <a:gd name="adj1" fmla="val 50000"/>
            </a:avLst>
          </a:prstGeom>
          <a:ln w="101520">
            <a:solidFill>
              <a:srgbClr val="c0c0c0"/>
            </a:solidFill>
            <a:miter/>
            <a:tailEnd len="med" type="triangle" w="med"/>
          </a:ln>
        </p:spPr>
      </p:cxn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3886200" y="4827600"/>
            <a:ext cx="1393920" cy="7812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2895480" y="3124080"/>
            <a:ext cx="2667240" cy="844560"/>
            <a:chOff x="2895480" y="3124080"/>
            <a:chExt cx="2667240" cy="844560"/>
          </a:xfrm>
        </p:grpSpPr>
        <p:sp>
          <p:nvSpPr>
            <p:cNvPr id="331" name=""/>
            <p:cNvSpPr/>
            <p:nvPr/>
          </p:nvSpPr>
          <p:spPr>
            <a:xfrm>
              <a:off x="2895480" y="3124080"/>
              <a:ext cx="2667240" cy="8445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불완전 질병코드 개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청구 총 질병코드 개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24080" y="3581280"/>
              <a:ext cx="223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5715000" y="2819520"/>
            <a:ext cx="3124080" cy="273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2B0-33CA-47C9-BF90-A2DC9136C6DE}" type="slidenum">
              <a:t>40</a:t>
            </a:fld>
          </a:p>
        </p:txBody>
      </p:sp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3840" y="266400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40320" y="2676600"/>
            <a:ext cx="16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5423040" y="38098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717696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608040" y="302436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219320" y="2209680"/>
            <a:ext cx="6929280" cy="457200"/>
            <a:chOff x="1219320" y="2209680"/>
            <a:chExt cx="6929280" cy="457200"/>
          </a:xfrm>
        </p:grpSpPr>
        <p:sp>
          <p:nvSpPr>
            <p:cNvPr id="344" name=""/>
            <p:cNvSpPr/>
            <p:nvPr/>
          </p:nvSpPr>
          <p:spPr>
            <a:xfrm>
              <a:off x="1219320" y="241272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82880" y="2412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86120" y="2209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3160" y="2412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34200" y="2412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30120" y="241272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19320" y="4930920"/>
            <a:ext cx="1447560" cy="1035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2057400" y="1447920"/>
            <a:ext cx="569448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590920" y="15238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질병코드 지표 조회시스템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1859040" y="2643120"/>
            <a:ext cx="1695240" cy="1938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35280" y="3213000"/>
            <a:ext cx="17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HY견고딕"/>
              </a:rPr>
              <a:t>중복코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HY견고딕"/>
              </a:rPr>
              <a:t>기재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55" name=""/>
          <p:cNvCxnSpPr/>
          <p:nvPr/>
        </p:nvCxnSpPr>
        <p:spPr>
          <a:xfrm flipV="1">
            <a:off x="2914560" y="3212640"/>
            <a:ext cx="1224720" cy="1153440"/>
          </a:xfrm>
          <a:prstGeom prst="bentConnector3">
            <a:avLst>
              <a:gd name="adj1" fmla="val 49926"/>
            </a:avLst>
          </a:prstGeom>
          <a:ln w="101520">
            <a:solidFill>
              <a:srgbClr val="c0c0c0"/>
            </a:solidFill>
            <a:miter/>
            <a:tailEnd len="med" type="triangle" w="med"/>
          </a:ln>
        </p:spPr>
      </p:cxnSp>
      <p:grpSp>
        <p:nvGrpSpPr>
          <p:cNvPr id="356" name=""/>
          <p:cNvGrpSpPr/>
          <p:nvPr/>
        </p:nvGrpSpPr>
        <p:grpSpPr>
          <a:xfrm>
            <a:off x="4859280" y="2708280"/>
            <a:ext cx="2514600" cy="735120"/>
            <a:chOff x="4859280" y="2708280"/>
            <a:chExt cx="2514600" cy="735120"/>
          </a:xfrm>
        </p:grpSpPr>
        <p:sp>
          <p:nvSpPr>
            <p:cNvPr id="357" name=""/>
            <p:cNvSpPr/>
            <p:nvPr/>
          </p:nvSpPr>
          <p:spPr>
            <a:xfrm>
              <a:off x="4859280" y="2708280"/>
              <a:ext cx="2514600" cy="7351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</a:t>
              </a:r>
              <a:r>
                <a:rPr b="1" lang="ko-KR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중복 질병코드 개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</a:t>
              </a:r>
              <a:r>
                <a:rPr b="1" lang="ko-KR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기타 질병코드 갯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11560" y="3089160"/>
              <a:ext cx="223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359" name=""/>
          <p:cNvGraphicFramePr/>
          <p:nvPr/>
        </p:nvGraphicFramePr>
        <p:xfrm>
          <a:off x="4538520" y="3672000"/>
          <a:ext cx="3456000" cy="25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8520" y="3672000"/>
                    <a:ext cx="34560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9B3-90BC-41A9-B0D5-14A014947B01}" type="slidenum">
              <a:t>41</a:t>
            </a:fld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5440320" y="2676600"/>
            <a:ext cx="16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25584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717696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608040" y="302436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199200" y="3573360"/>
            <a:ext cx="1636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marL="92160" indent="-92160">
              <a:lnSpc>
                <a:spcPct val="100000"/>
              </a:lnSpc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791320" y="2819520"/>
          <a:ext cx="3047760" cy="28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19520"/>
                    <a:ext cx="3047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809880" y="2819520"/>
            <a:ext cx="1695600" cy="1938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635280" y="3357720"/>
            <a:ext cx="17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견고딕"/>
              </a:rPr>
              <a:t>질병코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견고딕"/>
              </a:rPr>
              <a:t>개수지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86000" y="5045040"/>
            <a:ext cx="1647720" cy="98748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116000" y="2349360"/>
            <a:ext cx="6929280" cy="457200"/>
            <a:chOff x="1116000" y="2349360"/>
            <a:chExt cx="6929280" cy="457200"/>
          </a:xfrm>
        </p:grpSpPr>
        <p:sp>
          <p:nvSpPr>
            <p:cNvPr id="376" name=""/>
            <p:cNvSpPr/>
            <p:nvPr/>
          </p:nvSpPr>
          <p:spPr>
            <a:xfrm>
              <a:off x="1116000" y="255240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956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2800" y="23493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7984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3088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2680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2195640" y="1557360"/>
            <a:ext cx="5329080" cy="7542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685800" y="2819520"/>
            <a:ext cx="2521080" cy="1420560"/>
            <a:chOff x="685800" y="2819520"/>
            <a:chExt cx="2521080" cy="1420560"/>
          </a:xfrm>
        </p:grpSpPr>
        <p:sp>
          <p:nvSpPr>
            <p:cNvPr id="384" name=""/>
            <p:cNvSpPr/>
            <p:nvPr/>
          </p:nvSpPr>
          <p:spPr>
            <a:xfrm>
              <a:off x="685800" y="2819520"/>
              <a:ext cx="2521080" cy="14205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요양기관 상병별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질병코드 개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상병별 평균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Optima"/>
                  <a:ea typeface="HY울릉도M"/>
                </a:rPr>
                <a:t>질병코드 개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4560" y="3581280"/>
              <a:ext cx="223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971800" y="16765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질병코드 조회시스템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88" name=""/>
          <p:cNvCxnSpPr/>
          <p:nvPr/>
        </p:nvCxnSpPr>
        <p:spPr>
          <a:xfrm flipV="1" rot="10800000">
            <a:off x="3276000" y="2819160"/>
            <a:ext cx="989280" cy="1041840"/>
          </a:xfrm>
          <a:prstGeom prst="bentConnector3">
            <a:avLst>
              <a:gd name="adj1" fmla="val 49908"/>
            </a:avLst>
          </a:prstGeom>
          <a:ln w="1015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1B4-CAFF-4EEE-A351-8E21A442B72F}" type="slidenum">
              <a:t>42</a:t>
            </a:fld>
          </a:p>
        </p:txBody>
      </p:sp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93840" y="266400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325584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638680" y="2666880"/>
            <a:ext cx="1708200" cy="1938240"/>
            <a:chOff x="5638680" y="2666880"/>
            <a:chExt cx="1708200" cy="193824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5638680" y="2666880"/>
              <a:ext cx="169560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638680" y="3242880"/>
              <a:ext cx="170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r>
                <a:rPr b="0" lang="zh-CN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대 질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구성지표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219320" y="2133720"/>
            <a:ext cx="6929280" cy="457200"/>
            <a:chOff x="1219320" y="2133720"/>
            <a:chExt cx="6929280" cy="457200"/>
          </a:xfrm>
        </p:grpSpPr>
        <p:sp>
          <p:nvSpPr>
            <p:cNvPr id="398" name=""/>
            <p:cNvSpPr/>
            <p:nvPr/>
          </p:nvSpPr>
          <p:spPr>
            <a:xfrm>
              <a:off x="1219320" y="233676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82880" y="233676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86120" y="2133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83160" y="233676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34200" y="233676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30120" y="233676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781680" y="495288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362320" y="1447920"/>
            <a:ext cx="5329080" cy="753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124080" y="15238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질병코드 조회시스템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990720" y="4114800"/>
          <a:ext cx="35812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114800"/>
                    <a:ext cx="3581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990720" y="2666880"/>
            <a:ext cx="2447640" cy="114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tima"/>
                <a:ea typeface="HY울릉도M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Optima"/>
                <a:ea typeface="HY울릉도M"/>
              </a:rPr>
              <a:t>기관지염 지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Optima"/>
                <a:ea typeface="HY울릉도M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Optima"/>
                <a:ea typeface="HY울릉도M"/>
              </a:rPr>
              <a:t>천식 지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Optima"/>
                <a:ea typeface="HY울릉도M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Optima"/>
                <a:ea typeface="HY울릉도M"/>
              </a:rPr>
              <a:t>위장관 질환 지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10" name=""/>
          <p:cNvCxnSpPr/>
          <p:nvPr/>
        </p:nvCxnSpPr>
        <p:spPr>
          <a:xfrm flipV="1" rot="10800000">
            <a:off x="4876200" y="2665800"/>
            <a:ext cx="1456200" cy="1218600"/>
          </a:xfrm>
          <a:prstGeom prst="bentConnector3">
            <a:avLst>
              <a:gd name="adj1" fmla="val 49925"/>
            </a:avLst>
          </a:prstGeom>
          <a:ln w="1015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2DF-7F16-4FA7-84DE-00D12B7CB4C9}" type="slidenum">
              <a:t>43</a:t>
            </a:fld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193840" y="266400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393048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3679920" y="3535200"/>
            <a:ext cx="1612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40320" y="2676600"/>
            <a:ext cx="16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325584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7176960" y="2421000"/>
            <a:ext cx="135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7058160" y="3660840"/>
            <a:ext cx="17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2440" indent="-824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608040" y="3024360"/>
            <a:ext cx="135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757160" cy="1871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086600" y="3352680"/>
            <a:ext cx="17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다빈도 질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프로파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020000" y="5013360"/>
            <a:ext cx="1393920" cy="85248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1116000" y="2349360"/>
            <a:ext cx="6929280" cy="457200"/>
            <a:chOff x="1116000" y="2349360"/>
            <a:chExt cx="6929280" cy="457200"/>
          </a:xfrm>
        </p:grpSpPr>
        <p:sp>
          <p:nvSpPr>
            <p:cNvPr id="424" name=""/>
            <p:cNvSpPr/>
            <p:nvPr/>
          </p:nvSpPr>
          <p:spPr>
            <a:xfrm>
              <a:off x="1116000" y="2552400"/>
              <a:ext cx="692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7956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82800" y="23493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984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088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6800" y="2552400"/>
              <a:ext cx="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2209680" y="1600200"/>
            <a:ext cx="5329440" cy="754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971800" y="17524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질병코드 조회시스템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2895480"/>
            <a:ext cx="2376360" cy="3009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8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 호흡기계 질병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급성상기도감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부비동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후두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인플루엔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폐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기관지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세 기관지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ko-KR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중이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33" name=""/>
          <p:cNvCxnSpPr/>
          <p:nvPr/>
        </p:nvCxnSpPr>
        <p:spPr>
          <a:xfrm flipV="1" rot="10800000">
            <a:off x="6171480" y="2895480"/>
            <a:ext cx="1656360" cy="648360"/>
          </a:xfrm>
          <a:prstGeom prst="bentConnector3">
            <a:avLst>
              <a:gd name="adj1" fmla="val 49934"/>
            </a:avLst>
          </a:prstGeom>
          <a:ln w="101520">
            <a:solidFill>
              <a:srgbClr val="c0c0c0"/>
            </a:solidFill>
            <a:miter/>
            <a:tailEnd len="med" type="triangle" w="med"/>
          </a:ln>
        </p:spPr>
      </p:cxn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3048120" cy="2895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52280" y="304920"/>
            <a:ext cx="69692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675720" indent="-6757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 지표 모니터링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F51-FCB4-49A7-B2B4-1CCC64CE62CF}" type="slidenum">
              <a:t>44</a:t>
            </a:fld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1752480"/>
            <a:ext cx="691344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3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요양기관이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IRA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홈페이지 로그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80000"/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요양기관</a:t>
            </a:r>
            <a:r>
              <a:rPr b="1" lang="en-US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</a:t>
            </a:r>
            <a:r>
              <a:rPr b="1" lang="zh-CN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알고싶어요</a:t>
            </a:r>
            <a:r>
              <a:rPr b="1" lang="en-US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</a:t>
            </a:r>
            <a:r>
              <a:rPr b="1" lang="zh-CN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지표 조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회원가입 기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요양기관기호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조회기간 등 입력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지표 및 오류내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출력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분석가능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xcel data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원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지표해설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사용 매뉴얼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질병코드 기재원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이드라인 등 자동링크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6019920" y="2895480"/>
            <a:ext cx="2438280" cy="1279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04920" y="380880"/>
            <a:ext cx="7467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marL="583200" indent="-583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지표 </a:t>
            </a:r>
            <a:r>
              <a:rPr b="1" lang="en-US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Web </a:t>
            </a: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조회서비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583200" indent="-583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(2006. </a:t>
            </a:r>
            <a:r>
              <a:rPr b="1" lang="zh-CN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하반기 중 시행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931-88DC-4E5F-8B37-1B5C383CA4E4}" type="slidenum">
              <a:t>45</a:t>
            </a:fld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016280" y="1860480"/>
            <a:ext cx="8474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추진 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2590920"/>
            <a:ext cx="81536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개발계획 수립완료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3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월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005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국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공립 요양기관 지표 “서면” 통보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 5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월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시스템 개발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시험검증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 ~ 2006.8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월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r>
              <a:rPr b="1" lang="zh-CN" sz="2000" spc="-1" strike="noStrike">
                <a:solidFill>
                  <a:srgbClr val="ffffff"/>
                </a:solidFill>
                <a:latin typeface="HY울릉도M"/>
                <a:ea typeface="HY울릉도M"/>
              </a:rPr>
              <a:t>쉽고 간단한 조회 프로그램 개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개발완료 및 홍보 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2006.10</a:t>
            </a:r>
            <a:r>
              <a:rPr b="1" lang="zh-CN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월</a:t>
            </a:r>
            <a:r>
              <a:rPr b="1" lang="en-US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6248520" y="4343400"/>
            <a:ext cx="2438280" cy="12794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04920" y="304920"/>
            <a:ext cx="74674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marL="583200" indent="-583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질병코드지표 </a:t>
            </a:r>
            <a:r>
              <a:rPr b="1" lang="en-US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Web </a:t>
            </a:r>
            <a:r>
              <a:rPr b="1" lang="zh-CN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조회서비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583200" indent="-583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(2006. </a:t>
            </a:r>
            <a:r>
              <a:rPr b="1" lang="zh-CN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하반기 중 시행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EFD-2C19-47AD-988E-FA1A6EDBB7D5}" type="slidenum">
              <a:t>46</a:t>
            </a:fld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981080" y="2209680"/>
            <a:ext cx="586764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2. </a:t>
            </a:r>
            <a:r>
              <a:rPr b="1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내역 통보문 개선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7B6-43EE-4B9D-99D0-6ACE34FDD36B}" type="slidenum">
              <a:t>47</a:t>
            </a:fld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04920" y="457200"/>
            <a:ext cx="586728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ffff"/>
                </a:solidFill>
                <a:latin typeface="HY견고딕"/>
                <a:ea typeface="HY견고딕"/>
              </a:rPr>
              <a:t> </a:t>
            </a:r>
            <a:r>
              <a:rPr b="1" lang="ko-KR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심사내역 통보문 개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60480"/>
            <a:ext cx="129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목 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2590920"/>
            <a:ext cx="769644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결과에 대하여 간단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명료하게 핵심만 안내될 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있도록 개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결과에 대한 이해증진 도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우리 원과 요양기관의 업무 효율성 증대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4572000"/>
            <a:ext cx="129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시행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5105520"/>
            <a:ext cx="769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006. 3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월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0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일 통보분부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154A-4A64-421A-B891-8160F76656E4}" type="slidenum">
              <a:t>48</a:t>
            </a:fld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1752480"/>
            <a:ext cx="1905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개선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2438280"/>
            <a:ext cx="7696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 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핵심만 설명될 수 있도록 문안 전면 개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심사결과</a:t>
            </a:r>
            <a:r>
              <a:rPr b="0" lang="en-US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-</a:t>
            </a:r>
            <a:r>
              <a:rPr b="0" lang="zh-CN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사유</a:t>
            </a:r>
            <a:r>
              <a:rPr b="0" lang="en-US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-</a:t>
            </a:r>
            <a:r>
              <a:rPr b="0" lang="zh-CN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근거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순으로 문구정비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이해하기 쉽도록 간결한 “</a:t>
            </a:r>
            <a:r>
              <a:rPr b="0" lang="zh-CN" sz="2200" spc="-1" strike="noStrike">
                <a:solidFill>
                  <a:srgbClr val="ffff00"/>
                </a:solidFill>
                <a:latin typeface="HY견고딕"/>
                <a:ea typeface="HY견고딕"/>
              </a:rPr>
              <a:t>단문</a:t>
            </a:r>
            <a:r>
              <a:rPr b="0" lang="en-US" sz="2200" spc="-1" strike="noStrike">
                <a:solidFill>
                  <a:srgbClr val="ffffff"/>
                </a:solidFill>
                <a:latin typeface="HY견고딕"/>
                <a:ea typeface="HY견고딕"/>
              </a:rPr>
              <a:t>” 형태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3962520"/>
            <a:ext cx="624816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 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개</a:t>
            </a:r>
            <a:r>
              <a:rPr b="1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선 문안 수 </a:t>
            </a:r>
            <a:r>
              <a:rPr b="1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,700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여 항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명조,한컴돋움"/>
                <a:ea typeface="휴먼명조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전산표준 문안개선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1,750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항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전산표준 문안신설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133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항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통보실적 없는 항목 삭제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: 800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항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5791320"/>
            <a:ext cx="769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 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명세서 단위로 여러 내용 통보 가능토록 개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380880"/>
            <a:ext cx="586764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ffff"/>
                </a:solidFill>
                <a:latin typeface="HY견고딕"/>
                <a:ea typeface="HY견고딕"/>
              </a:rPr>
              <a:t> </a:t>
            </a:r>
            <a:r>
              <a:rPr b="1" lang="ko-KR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심사내역 통보문 개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C6C9-974C-470D-8C2E-DFD76BAD156E}" type="slidenum">
              <a:t>49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523880"/>
            <a:ext cx="838188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청구프로그램 변경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본인부담율에 따라 “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2.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 입원료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”에 각각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“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목” 신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10.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기본식대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11.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가산식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800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038480"/>
            <a:ext cx="6933960" cy="1461600"/>
          </a:xfrm>
          <a:prstGeom prst="rect">
            <a:avLst/>
          </a:prstGeom>
          <a:noFill/>
          <a:ln cap="rnd" w="64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한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     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종전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)                               (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개정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입원료항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04.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식대      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04.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기본식대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,  11: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가산식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791320"/>
            <a:ext cx="7238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향후 고시개정 대비 사용유보 ‘목’ 신설  </a:t>
            </a:r>
            <a:r>
              <a:rPr b="1" lang="en-US" sz="20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12, 1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9CDD-4CA3-4DC4-8266-6CD9B464DC2A}" type="slidenum">
              <a:t>5</a:t>
            </a:fld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9480" y="1219320"/>
            <a:ext cx="1905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MD아트체"/>
                <a:ea typeface="MD아트체"/>
              </a:rPr>
              <a:t>통보예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1532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요양급여의적용기준및방법에관한세부사항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보건복지부고시제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2000-73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호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. 2000. 12. 30)'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에 의거 티눈이 손등이나 전박부에 생길 경우에는 업무 또는 일상생활에 지장이 없는 것으로 간주하여 국민건강보험요양급여의기준에관한규칙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[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별표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2]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비급여 대상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. 1-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나에 의거 비급여 대상이나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발바닥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발가락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발 등에 생겨 보행이나 신을 신는데 통증이나 불편을 줄 경우에는 동 티눈 제거는 급여대상이 되며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수부 또는 족부 티눈이 수개처에 있어 자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-14-1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티눈제거술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(N0143, N0144)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실시시 제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의 것은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100%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의 것부터는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50%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를 산정하되 최대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200%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를 산정하고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발등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손등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과 발가락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손가락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사이에 발생한 티눈은 타 범위로 간주하여 소정금액을  각각 산정할 수 있음을  알려드립니다</a:t>
            </a:r>
            <a:r>
              <a:rPr b="1" lang="ko-KR" sz="1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4495680"/>
            <a:ext cx="6324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 flipV="1" rot="7377000">
            <a:off x="-51120" y="3251160"/>
            <a:ext cx="936360" cy="833400"/>
          </a:xfrm>
          <a:custGeom>
            <a:avLst/>
            <a:gdLst/>
            <a:ahLst/>
            <a:rect l="l" t="t" r="r" b="b"/>
            <a:pathLst>
              <a:path w="599" h="299">
                <a:moveTo>
                  <a:pt x="0" y="1"/>
                </a:move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7" y="0"/>
                </a:lnTo>
                <a:lnTo>
                  <a:pt x="105" y="1"/>
                </a:lnTo>
                <a:lnTo>
                  <a:pt x="123" y="3"/>
                </a:lnTo>
                <a:lnTo>
                  <a:pt x="139" y="7"/>
                </a:lnTo>
                <a:lnTo>
                  <a:pt x="158" y="10"/>
                </a:lnTo>
                <a:lnTo>
                  <a:pt x="180" y="16"/>
                </a:lnTo>
                <a:lnTo>
                  <a:pt x="199" y="22"/>
                </a:lnTo>
                <a:lnTo>
                  <a:pt x="218" y="27"/>
                </a:lnTo>
                <a:lnTo>
                  <a:pt x="239" y="35"/>
                </a:lnTo>
                <a:lnTo>
                  <a:pt x="258" y="44"/>
                </a:lnTo>
                <a:lnTo>
                  <a:pt x="278" y="53"/>
                </a:lnTo>
                <a:lnTo>
                  <a:pt x="295" y="61"/>
                </a:lnTo>
                <a:lnTo>
                  <a:pt x="313" y="69"/>
                </a:lnTo>
                <a:lnTo>
                  <a:pt x="329" y="78"/>
                </a:lnTo>
                <a:lnTo>
                  <a:pt x="346" y="88"/>
                </a:lnTo>
                <a:lnTo>
                  <a:pt x="363" y="97"/>
                </a:lnTo>
                <a:lnTo>
                  <a:pt x="381" y="110"/>
                </a:lnTo>
                <a:lnTo>
                  <a:pt x="396" y="119"/>
                </a:lnTo>
                <a:lnTo>
                  <a:pt x="413" y="133"/>
                </a:lnTo>
                <a:lnTo>
                  <a:pt x="428" y="144"/>
                </a:lnTo>
                <a:lnTo>
                  <a:pt x="442" y="156"/>
                </a:lnTo>
                <a:lnTo>
                  <a:pt x="454" y="169"/>
                </a:lnTo>
                <a:lnTo>
                  <a:pt x="464" y="181"/>
                </a:lnTo>
                <a:lnTo>
                  <a:pt x="471" y="192"/>
                </a:lnTo>
                <a:lnTo>
                  <a:pt x="598" y="177"/>
                </a:lnTo>
                <a:lnTo>
                  <a:pt x="580" y="185"/>
                </a:lnTo>
                <a:lnTo>
                  <a:pt x="559" y="194"/>
                </a:lnTo>
                <a:lnTo>
                  <a:pt x="543" y="201"/>
                </a:lnTo>
                <a:lnTo>
                  <a:pt x="530" y="207"/>
                </a:lnTo>
                <a:lnTo>
                  <a:pt x="517" y="214"/>
                </a:lnTo>
                <a:lnTo>
                  <a:pt x="506" y="221"/>
                </a:lnTo>
                <a:lnTo>
                  <a:pt x="496" y="228"/>
                </a:lnTo>
                <a:lnTo>
                  <a:pt x="485" y="236"/>
                </a:lnTo>
                <a:lnTo>
                  <a:pt x="475" y="244"/>
                </a:lnTo>
                <a:lnTo>
                  <a:pt x="463" y="255"/>
                </a:lnTo>
                <a:lnTo>
                  <a:pt x="450" y="266"/>
                </a:lnTo>
                <a:lnTo>
                  <a:pt x="440" y="276"/>
                </a:lnTo>
                <a:lnTo>
                  <a:pt x="428" y="288"/>
                </a:lnTo>
                <a:lnTo>
                  <a:pt x="418" y="298"/>
                </a:lnTo>
                <a:lnTo>
                  <a:pt x="408" y="294"/>
                </a:lnTo>
                <a:lnTo>
                  <a:pt x="398" y="288"/>
                </a:lnTo>
                <a:lnTo>
                  <a:pt x="388" y="283"/>
                </a:lnTo>
                <a:lnTo>
                  <a:pt x="375" y="278"/>
                </a:lnTo>
                <a:lnTo>
                  <a:pt x="363" y="273"/>
                </a:lnTo>
                <a:lnTo>
                  <a:pt x="351" y="269"/>
                </a:lnTo>
                <a:lnTo>
                  <a:pt x="340" y="266"/>
                </a:lnTo>
                <a:lnTo>
                  <a:pt x="327" y="262"/>
                </a:lnTo>
                <a:lnTo>
                  <a:pt x="314" y="258"/>
                </a:lnTo>
                <a:lnTo>
                  <a:pt x="300" y="255"/>
                </a:lnTo>
                <a:lnTo>
                  <a:pt x="287" y="252"/>
                </a:lnTo>
                <a:lnTo>
                  <a:pt x="275" y="248"/>
                </a:lnTo>
                <a:lnTo>
                  <a:pt x="261" y="246"/>
                </a:lnTo>
                <a:lnTo>
                  <a:pt x="249" y="243"/>
                </a:lnTo>
                <a:lnTo>
                  <a:pt x="236" y="241"/>
                </a:lnTo>
                <a:lnTo>
                  <a:pt x="222" y="238"/>
                </a:lnTo>
                <a:lnTo>
                  <a:pt x="203" y="235"/>
                </a:lnTo>
                <a:lnTo>
                  <a:pt x="334" y="213"/>
                </a:lnTo>
                <a:lnTo>
                  <a:pt x="325" y="196"/>
                </a:lnTo>
                <a:lnTo>
                  <a:pt x="315" y="183"/>
                </a:lnTo>
                <a:lnTo>
                  <a:pt x="297" y="158"/>
                </a:lnTo>
                <a:lnTo>
                  <a:pt x="286" y="148"/>
                </a:lnTo>
                <a:lnTo>
                  <a:pt x="275" y="136"/>
                </a:lnTo>
                <a:lnTo>
                  <a:pt x="255" y="118"/>
                </a:lnTo>
                <a:lnTo>
                  <a:pt x="243" y="107"/>
                </a:lnTo>
                <a:lnTo>
                  <a:pt x="229" y="94"/>
                </a:lnTo>
                <a:lnTo>
                  <a:pt x="216" y="84"/>
                </a:lnTo>
                <a:lnTo>
                  <a:pt x="205" y="76"/>
                </a:lnTo>
                <a:lnTo>
                  <a:pt x="194" y="67"/>
                </a:lnTo>
                <a:lnTo>
                  <a:pt x="181" y="59"/>
                </a:lnTo>
                <a:lnTo>
                  <a:pt x="167" y="50"/>
                </a:lnTo>
                <a:lnTo>
                  <a:pt x="152" y="44"/>
                </a:lnTo>
                <a:lnTo>
                  <a:pt x="139" y="36"/>
                </a:lnTo>
                <a:lnTo>
                  <a:pt x="121" y="30"/>
                </a:lnTo>
                <a:lnTo>
                  <a:pt x="105" y="24"/>
                </a:lnTo>
                <a:lnTo>
                  <a:pt x="87" y="20"/>
                </a:lnTo>
                <a:lnTo>
                  <a:pt x="69" y="16"/>
                </a:lnTo>
                <a:lnTo>
                  <a:pt x="50" y="11"/>
                </a:lnTo>
                <a:lnTo>
                  <a:pt x="31" y="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8ab24e"/>
              </a:gs>
              <a:gs pos="100000">
                <a:srgbClr val="c5d8a8"/>
              </a:gs>
            </a:gsLst>
            <a:lin ang="10800000"/>
          </a:gradFill>
          <a:ln cap="rnd"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457200"/>
            <a:ext cx="586728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ffff"/>
                </a:solidFill>
                <a:latin typeface="HY견고딕"/>
                <a:ea typeface="HY견고딕"/>
              </a:rPr>
              <a:t> </a:t>
            </a:r>
            <a:r>
              <a:rPr b="1" lang="ko-KR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심사내역 통보문 개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62120" y="3352680"/>
            <a:ext cx="8048520" cy="2895480"/>
            <a:chOff x="762120" y="3352680"/>
            <a:chExt cx="8048520" cy="2895480"/>
          </a:xfrm>
        </p:grpSpPr>
        <p:sp>
          <p:nvSpPr>
            <p:cNvPr id="460" name=""/>
            <p:cNvSpPr/>
            <p:nvPr/>
          </p:nvSpPr>
          <p:spPr>
            <a:xfrm>
              <a:off x="762120" y="3352680"/>
              <a:ext cx="8001000" cy="2895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5120" y="3581280"/>
              <a:ext cx="6477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05120" y="4267080"/>
              <a:ext cx="64771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05120" y="5562360"/>
              <a:ext cx="6477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3581280"/>
              <a:ext cx="913680" cy="456840"/>
              <a:chOff x="914400" y="3581280"/>
              <a:chExt cx="913680" cy="45684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3581280"/>
                <a:ext cx="91368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7d77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25640" y="3636720"/>
                <a:ext cx="690840" cy="345600"/>
              </a:xfrm>
              <a:prstGeom prst="ellipse">
                <a:avLst/>
              </a:prstGeom>
              <a:gradFill rotWithShape="0">
                <a:gsLst>
                  <a:gs pos="0">
                    <a:srgbClr val="f7d77b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210040" y="3657600"/>
              <a:ext cx="54864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자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14-1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티눈제거술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x 300%)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가 심사조정 되었습니다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33720" y="4419360"/>
              <a:ext cx="6019920" cy="91440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발바닥에 티눈이 수개 처에 있어 동시에 제거시 최대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200%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까지 산정할 수 있으며 제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의 것은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100%,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제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의 것부터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50%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산정됩니다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10040" y="5562360"/>
              <a:ext cx="66006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굴림"/>
                </a:rPr>
                <a:t>보건복지부고시제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2000-73</a:t>
              </a:r>
              <a:r>
                <a:rPr b="1" lang="zh-CN" sz="1800" spc="-1" strike="noStrike">
                  <a:solidFill>
                    <a:srgbClr val="000000"/>
                  </a:solidFill>
                  <a:latin typeface="굴림"/>
                </a:rPr>
                <a:t>호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(‘00.12.30)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90720" y="3657600"/>
              <a:ext cx="762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Optima"/>
                  <a:ea typeface="돋움"/>
                </a:rPr>
                <a:t>심사결과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914400" y="4572000"/>
              <a:ext cx="913680" cy="456840"/>
              <a:chOff x="914400" y="4572000"/>
              <a:chExt cx="913680" cy="456840"/>
            </a:xfrm>
          </p:grpSpPr>
          <p:sp>
            <p:nvSpPr>
              <p:cNvPr id="472" name=""/>
              <p:cNvSpPr/>
              <p:nvPr/>
            </p:nvSpPr>
            <p:spPr>
              <a:xfrm>
                <a:off x="914400" y="4572000"/>
                <a:ext cx="91368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7d77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25640" y="4627440"/>
                <a:ext cx="690840" cy="345600"/>
              </a:xfrm>
              <a:prstGeom prst="ellipse">
                <a:avLst/>
              </a:prstGeom>
              <a:gradFill rotWithShape="0">
                <a:gsLst>
                  <a:gs pos="0">
                    <a:srgbClr val="f7d77b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990720" y="4647960"/>
              <a:ext cx="762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Optima"/>
                  <a:ea typeface="돋움"/>
                </a:rPr>
                <a:t>   </a:t>
              </a:r>
              <a:r>
                <a:rPr b="1" lang="zh-CN" sz="1400" spc="-1" strike="noStrike">
                  <a:solidFill>
                    <a:srgbClr val="000000"/>
                  </a:solidFill>
                  <a:latin typeface="Optima"/>
                  <a:ea typeface="돋움"/>
                </a:rPr>
                <a:t>사 유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14400" y="5562360"/>
              <a:ext cx="913680" cy="456840"/>
              <a:chOff x="914400" y="5562360"/>
              <a:chExt cx="913680" cy="456840"/>
            </a:xfrm>
          </p:grpSpPr>
          <p:sp>
            <p:nvSpPr>
              <p:cNvPr id="476" name=""/>
              <p:cNvSpPr/>
              <p:nvPr/>
            </p:nvSpPr>
            <p:spPr>
              <a:xfrm>
                <a:off x="914400" y="5562360"/>
                <a:ext cx="91368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7d77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25640" y="5617800"/>
                <a:ext cx="690840" cy="345600"/>
              </a:xfrm>
              <a:prstGeom prst="ellipse">
                <a:avLst/>
              </a:prstGeom>
              <a:gradFill rotWithShape="0">
                <a:gsLst>
                  <a:gs pos="0">
                    <a:srgbClr val="f7d77b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990720" y="5638680"/>
              <a:ext cx="762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Optima"/>
                  <a:ea typeface="돋움"/>
                </a:rPr>
                <a:t>   </a:t>
              </a:r>
              <a:r>
                <a:rPr b="1" lang="zh-CN" sz="1400" spc="-1" strike="noStrike">
                  <a:solidFill>
                    <a:srgbClr val="000000"/>
                  </a:solidFill>
                  <a:latin typeface="Optima"/>
                  <a:ea typeface="돋움"/>
                </a:rPr>
                <a:t>근 거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F42E-CB25-4AF9-ABEA-212FBC4D1D95}" type="slidenum">
              <a:t>50</a:t>
            </a:fld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14400" y="2590920"/>
            <a:ext cx="78487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just">
              <a:lnSpc>
                <a:spcPct val="17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 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문장내 특수문자를 활용한 엔터키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(enter key)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기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문장 내 </a:t>
            </a:r>
            <a:r>
              <a:rPr b="0" lang="ko-KR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줄 단락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구분시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특수문자 “</a:t>
            </a:r>
            <a:r>
              <a:rPr b="0" lang="ko-KR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”를 활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명세서 내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2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개 이상 통보시 내용구분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  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특수문자  “</a:t>
            </a:r>
            <a:r>
              <a:rPr b="0" lang="ko-KR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■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”를 활용</a:t>
            </a:r>
            <a:r>
              <a:rPr b="0" lang="ko-KR" sz="2200" spc="-1" strike="noStrike">
                <a:solidFill>
                  <a:srgbClr val="ffffff"/>
                </a:solidFill>
                <a:latin typeface="HY견고딕"/>
                <a:ea typeface="휴먼명조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2057400"/>
            <a:ext cx="1905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협조요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685800"/>
            <a:ext cx="58676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ffff"/>
                </a:solidFill>
                <a:latin typeface="HY견고딕"/>
                <a:ea typeface="HY견고딕"/>
              </a:rPr>
              <a:t> </a:t>
            </a:r>
            <a:r>
              <a:rPr b="1" lang="ko-KR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심사내역 통보문 개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5CC5-CC42-491F-9B7B-FD280062294A}" type="slidenum">
              <a:t>51</a:t>
            </a:fld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90720" y="2133720"/>
            <a:ext cx="7238880" cy="102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8BD-DA71-4197-8B2E-A322B844F697}" type="slidenum">
              <a:t>52</a:t>
            </a:fld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0880" y="457200"/>
            <a:ext cx="67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70000"/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676520"/>
            <a:ext cx="129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추진배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2209680"/>
            <a:ext cx="7696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진료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조제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건수의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99%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가 전산청구 환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명세서 기능에 있어 정확한 청구 및 심사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보건의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통계 생성 등의 기반 마련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3809880"/>
            <a:ext cx="1600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추진근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4343400"/>
            <a:ext cx="80773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건강보험요양급여비용 청구방법 명세서 개정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시 제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-41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호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2004. 7.1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외래의 경우 “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방문일자별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”로 각각 작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단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시범기관을 제외한 요양기관은 동일 명세서에 통합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작성 가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EAE-C33B-4B13-8BBE-CF3F0C1A0339}" type="slidenum">
              <a:t>53</a:t>
            </a:fld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0880" y="457200"/>
            <a:ext cx="67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70000"/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676520"/>
            <a:ext cx="129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추진경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2438280"/>
            <a:ext cx="84582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진료비 청구명세서 서식개선협의회 구성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운영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2003.6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월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~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부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약계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소비자단체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보험자 등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19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명으로 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3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회 개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심평원에 일자별 작성 시범사업 추진 ‘전담조직’ 구성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운영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2004.7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월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~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의약단체 간담회 실시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(2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회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관련 청구방법 고시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(2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회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2005. 7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월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시범기관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약국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), 2005.10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월부터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보건기관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201-84B5-44C9-BF53-A5F3502E8E85}" type="slidenum">
              <a:t>54</a:t>
            </a:fld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2120" y="1523880"/>
            <a:ext cx="4190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시범요양기관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533520"/>
            <a:ext cx="67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70000"/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2286000"/>
            <a:ext cx="1295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당연 지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2286000"/>
            <a:ext cx="129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임의 신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7010280" y="6172200"/>
            <a:ext cx="1676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Optima"/>
                <a:ea typeface="돋움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HY그래픽M"/>
                <a:ea typeface="HY그래픽M"/>
              </a:rPr>
              <a:t>2006.4</a:t>
            </a:r>
            <a:r>
              <a:rPr b="0" lang="zh-CN" sz="1600" spc="-1" strike="noStrike">
                <a:solidFill>
                  <a:srgbClr val="ffffff"/>
                </a:solidFill>
                <a:latin typeface="HY그래픽M"/>
                <a:ea typeface="HY그래픽M"/>
              </a:rPr>
              <a:t>월말 기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80880" y="2714760"/>
            <a:ext cx="8382240" cy="3381120"/>
            <a:chOff x="380880" y="2714760"/>
            <a:chExt cx="8382240" cy="3381120"/>
          </a:xfrm>
        </p:grpSpPr>
        <p:pic>
          <p:nvPicPr>
            <p:cNvPr id="497" name="" descr=""/>
            <p:cNvPicPr/>
            <p:nvPr/>
          </p:nvPicPr>
          <p:blipFill>
            <a:blip r:embed="rId2"/>
            <a:stretch/>
          </p:blipFill>
          <p:spPr>
            <a:xfrm>
              <a:off x="380880" y="2714760"/>
              <a:ext cx="8382240" cy="33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609480" y="3124080"/>
              <a:ext cx="3429000" cy="2635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800" spc="-1" strike="noStrike">
                  <a:solidFill>
                    <a:srgbClr val="2f199f"/>
                  </a:solidFill>
                  <a:latin typeface="MD아트체"/>
                  <a:ea typeface="MD아트체"/>
                </a:rPr>
                <a:t>21,950 </a:t>
              </a:r>
              <a:r>
                <a:rPr b="1" lang="zh-CN" sz="1800" spc="-1" strike="noStrike">
                  <a:solidFill>
                    <a:srgbClr val="2f199f"/>
                  </a:solidFill>
                  <a:latin typeface="MD아트체"/>
                  <a:ea typeface="MD아트체"/>
                </a:rPr>
                <a:t>개소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종합병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국립의료원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,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공단일산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            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병원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,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국립경찰병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병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국립서울병원 등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2f199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99f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한방병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국립의료원 한방진료부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건의료원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17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약국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20.439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건소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,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건지소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; 1,508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6920" y="3200400"/>
              <a:ext cx="3429000" cy="249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800" spc="-1" strike="noStrike">
                  <a:solidFill>
                    <a:srgbClr val="2f199f"/>
                  </a:solidFill>
                  <a:latin typeface="MD아트체"/>
                  <a:ea typeface="MD아트체"/>
                </a:rPr>
                <a:t>115 </a:t>
              </a:r>
              <a:r>
                <a:rPr b="1" lang="zh-CN" sz="1800" spc="-1" strike="noStrike">
                  <a:solidFill>
                    <a:srgbClr val="2f199f"/>
                  </a:solidFill>
                  <a:latin typeface="MD아트체"/>
                  <a:ea typeface="MD아트체"/>
                </a:rPr>
                <a:t>개소</a:t>
              </a:r>
              <a:r>
                <a:rPr b="1" lang="en-US" sz="1800" spc="-1" strike="noStrike">
                  <a:solidFill>
                    <a:srgbClr val="2f199f"/>
                  </a:solidFill>
                  <a:latin typeface="HY그래픽M"/>
                  <a:ea typeface="HY그래픽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종합병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삼성제일병원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, 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울산대학교병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의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37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치과의원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: 76</a:t>
              </a:r>
              <a:r>
                <a:rPr b="1" lang="zh-CN" sz="16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개소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0B6-09AE-423E-AFE6-0FD405C9F268}" type="slidenum">
              <a:t>55</a:t>
            </a:fld>
          </a:p>
        </p:txBody>
      </p:sp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80880" y="457200"/>
            <a:ext cx="67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70000"/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1447920"/>
            <a:ext cx="4724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시범운영 결과에 따른 기대효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2133720"/>
            <a:ext cx="678204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요양기관 측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진료비 회수기간 단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자료제출 감소 등 행정절차 간소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결과에 대한 정확한 정보 획득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심사평가원 측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심사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평가의 정확성 및 효율성 제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진료기록부 등 자료요청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정부 측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e-Health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환경에 맞는 보건의료정보 구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정책수립 합리성 제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7499-13C8-4422-A520-2221E7F0C532}" type="slidenum">
              <a:t>56</a:t>
            </a:fld>
          </a:p>
        </p:txBody>
      </p:sp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14400" y="2666880"/>
            <a:ext cx="769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일자별 작성 및 청구 시범사업 지속운영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3429000"/>
            <a:ext cx="769608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단계별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견고딕"/>
                <a:ea typeface="HY견고딕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간담회 및 설명회를 통한 의견수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의원급은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2007. 1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월에 확대 예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병원급 이상도 순차적으로 일자별 작성 확대 예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   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시행 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6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개월 이전 안내</a:t>
            </a:r>
            <a:r>
              <a:rPr b="0" lang="ko-KR" sz="20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533520"/>
            <a:ext cx="670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70000"/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2800" spc="-1" strike="noStrike">
                <a:solidFill>
                  <a:srgbClr val="00ffff"/>
                </a:solidFill>
                <a:latin typeface="HY견고딕"/>
                <a:ea typeface="HY견고딕"/>
              </a:rPr>
              <a:t>외래명세서 일자별 작성 추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752480"/>
            <a:ext cx="2438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HY견고딕"/>
                <a:ea typeface="HY견고딕"/>
              </a:rPr>
              <a:t>향후 추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9952-AC55-460A-A8BD-815F409D40C6}" type="slidenum">
              <a:t>57</a:t>
            </a:fld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2590920" y="2708280"/>
            <a:ext cx="4024080" cy="1853640"/>
            <a:chOff x="2590920" y="2708280"/>
            <a:chExt cx="4024080" cy="185364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2700360" y="2708280"/>
              <a:ext cx="39146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590920" y="3809880"/>
              <a:ext cx="3657600" cy="752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 </a:t>
              </a:r>
              <a:r>
                <a:rPr b="1" lang="en-US" sz="5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Q &amp; A</a:t>
              </a:r>
              <a:endParaRPr b="0" lang="en-US" sz="5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6F55-97FB-47D7-A4D9-4470C1E159B1}" type="slidenum">
              <a:t>58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45720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700280"/>
            <a:ext cx="80010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기존 서식 활용시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유예기간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06.12.31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 청구분 까지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2.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입원료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99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목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타 입원료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기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한방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입원료 항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04.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식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본식대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산식대 모두 포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ADF5-BA60-45C4-A6FF-4ACC7E8160C3}" type="slidenum">
              <a:t>6</a:t>
            </a:fld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26028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268280"/>
            <a:ext cx="66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서면청구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항 입원료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2057400"/>
          <a:ext cx="5334120" cy="2895480"/>
        </p:xfrm>
        <a:graphic>
          <a:graphicData uri="http://schemas.openxmlformats.org/drawingml/2006/table">
            <a:tbl>
              <a:tblPr/>
              <a:tblGrid>
                <a:gridCol w="2438640"/>
                <a:gridCol w="2895480"/>
              </a:tblGrid>
              <a:tr h="79524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의과 입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lvl="1" marL="914400" indent="-457200">
                        <a:lnSpc>
                          <a:spcPct val="12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기본식대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914400" indent="-45720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가산식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08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치과 입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lvl="1" marL="914400" indent="-457200">
                        <a:lnSpc>
                          <a:spcPct val="12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기본식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914400" indent="-4572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가산식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한방 입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lvl="1" marL="914400" indent="-457200">
                        <a:lnSpc>
                          <a:spcPct val="13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기본식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914400" indent="-457200">
                        <a:lnSpc>
                          <a:spcPct val="7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130000"/>
                        <a:buFont typeface="HY헤드라인M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가산식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18000" rIns="18000" tIns="10800" bIns="10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조산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 lvl="1" marL="457200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   </a:t>
                      </a: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기본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,   </a:t>
                      </a: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HY헤드라인M"/>
                          <a:ea typeface="HY헤드라인M"/>
                        </a:rPr>
                        <a:t>가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8000" marR="18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295280" y="5105520"/>
            <a:ext cx="7848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HY그래픽M"/>
                <a:ea typeface="HY그래픽M"/>
              </a:rPr>
              <a:t>기존 서식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활용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식대내역은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항 기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 “</a:t>
            </a:r>
            <a:r>
              <a:rPr b="1" lang="ko-KR" sz="2400" spc="-1" strike="noStrike">
                <a:solidFill>
                  <a:srgbClr val="ffff00"/>
                </a:solidFill>
                <a:latin typeface="HY그래픽M"/>
                <a:ea typeface="HY그래픽M"/>
              </a:rPr>
              <a:t>고무인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” 추가 표기 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기본식대 및 가산식대 금액</a:t>
            </a:r>
            <a:r>
              <a:rPr b="1" lang="ko-KR" sz="2400" spc="-1" strike="noStrike">
                <a:solidFill>
                  <a:srgbClr val="ffffff"/>
                </a:solidFill>
                <a:latin typeface="HY그래픽M"/>
                <a:ea typeface="HY그래픽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C0BE-EFEF-4E24-BB50-50AE61548530}" type="slidenum">
              <a:t>7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533520"/>
            <a:ext cx="58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식대 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981080"/>
            <a:ext cx="7391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DRG </a:t>
            </a:r>
            <a:r>
              <a:rPr b="0" lang="zh-CN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청구   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**** 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식대 별도 산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별표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8) 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정내역 구분코드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MT007  DRG 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세부내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“</a:t>
            </a:r>
            <a:r>
              <a:rPr b="0" lang="zh-CN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식대”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진료내역 기재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>
              <a:lnSpc>
                <a:spcPct val="11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역구분 </a:t>
            </a: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en-US" sz="2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FE20-DEE8-47FC-9511-2AEA9209EBD3}" type="slidenum">
              <a:t>8</a:t>
            </a:fld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586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HY견고딕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PET </a:t>
            </a:r>
            <a:r>
              <a:rPr b="1" lang="zh-CN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청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295280"/>
            <a:ext cx="838188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청구프로그램 변경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“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S.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특수장비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”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항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신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-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검사종류별로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각각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“목” </a:t>
            </a: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     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01. CT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진단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02. MRI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진단   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03. PET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진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2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향후 고시개정 대비 사용유보 ‘목’ 신설  </a:t>
            </a:r>
            <a:r>
              <a:rPr b="1" lang="ko-KR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04, 05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343400"/>
            <a:ext cx="60195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C,  M.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항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삭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029200"/>
            <a:ext cx="6019560" cy="1143360"/>
          </a:xfrm>
          <a:prstGeom prst="rect">
            <a:avLst/>
          </a:prstGeom>
          <a:noFill/>
          <a:ln cap="rnd" w="64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심사결과통보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CT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액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, MRI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총액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00"/>
                </a:solidFill>
                <a:latin typeface="HY그래픽M"/>
                <a:ea typeface="HY그래픽M"/>
              </a:rPr>
              <a:t>삭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- </a:t>
            </a:r>
            <a:r>
              <a:rPr b="1" lang="zh-CN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특수장비총액 </a:t>
            </a:r>
            <a:r>
              <a:rPr b="1" lang="en-US" sz="2200" spc="-1" strike="noStrike">
                <a:solidFill>
                  <a:srgbClr val="ffffff"/>
                </a:solidFill>
                <a:latin typeface="HY그래픽M"/>
                <a:ea typeface="HY그래픽M"/>
              </a:rPr>
              <a:t>: </a:t>
            </a:r>
            <a:r>
              <a:rPr b="1" lang="zh-CN" sz="2200" spc="-1" strike="noStrike">
                <a:solidFill>
                  <a:srgbClr val="ffff00"/>
                </a:solidFill>
                <a:latin typeface="HY그래픽M"/>
                <a:ea typeface="HY그래픽M"/>
              </a:rPr>
              <a:t>신설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7BA-A108-49B2-B4D6-99C6D7105FC5}" type="slidenum">
              <a:t>9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0:02:15Z</dcterms:created>
  <dc:creator>jskong</dc:creator>
  <dc:description/>
  <dc:language>en-US</dc:language>
  <cp:lastModifiedBy>samsung</cp:lastModifiedBy>
  <dcterms:modified xsi:type="dcterms:W3CDTF">2006-05-18T08:14:48Z</dcterms:modified>
  <cp:revision>356</cp:revision>
  <dc:subject/>
  <dc:title>워크삽 발표자료</dc:title>
</cp:coreProperties>
</file>